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Lord, How Shall I Mee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E SOLL ICH DICH EMPF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aul Gerhardt, 1607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Crüger, 1598-1662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Lord, how shall I m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welcome you arigh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people long to gr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ope, my heart's De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Jesus, let your Word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mp to light my 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how me how to please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uide me ev'ry d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Love caused your incarnatio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brought you down to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thirst for my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ured my liber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love beyond all tel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ed you to emb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love, all love exc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lost and fallen ra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Rejoice, then, you sad-hear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sit in deepest gloo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mourn o'er joys depar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remble at your doo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air not; he is near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's standing at the do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best can help and cheer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ids you weep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in's debt, that fearful burde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not your souls distre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guilt the Lord will pard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over by his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omes, for you procu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e of sin forgiv'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children thus secu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heritage in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He comes to judge the nation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error to his fo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ght of consolation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lessed hope to th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love the Lord's appea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glorious Sun, now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 forth your beams most chee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uide us safely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49:39Z</dcterms:modified>
  <cp:revision>8</cp:revision>
  <dc:subject/>
  <dc:title>Slide 1</dc:title>
</cp:coreProperties>
</file>