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h, Come, Oh, Come, Em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NI, EM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tin hymn, c. 12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15th cent.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h, come, oh, come, Emmanue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ransom captive Isra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mourns in lonely exi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 the Son of God app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h, come, O Root of Jesse, fr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own from Satan's tyrann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depths of hell your people sa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ring them vict'ry o'er the gra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h, come, O Day-spring from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heer us by your drawing nig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perse the gloomy clouds of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death's dark shadows put to f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h, come, O Key of David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open wide our heav'nly h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ave the way that leads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lose the path to mise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54:34Z</dcterms:modified>
  <cp:revision>8</cp:revision>
  <dc:subject/>
  <dc:title>Slide 1</dc:title>
</cp:coreProperties>
</file>