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fort, Comfort All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 DICH S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Olearius, 1611-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rente quatre Pseaumes de David, Geneva, 1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fort, Comfort All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"Comfort, comfort all my peop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of peace," so says our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omfort those who sit in dark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aning from their sorrows' loa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to all Jerusa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peace that waits for the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them that their sins I co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eir warfare is now over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fort, Comfort All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ll their sins our God will pard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tting out each dark misde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well deserve his an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no more will see or h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ve suffered many a d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eir griefs have passed a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will change their aching sa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 ever-springing glad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fort, Comfort All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John the Baptist's voice is c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desert far and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ing people to repen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kingdom now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that warning cry obe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prepare for God a 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valleys rise to meet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hills bow down to greet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fort, Comfort All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traighten out the crooked high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the rougher places pl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hearts be true and humb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y for his holy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glory of the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o'er earth is spread abro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flesh shall see the to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is word is never brok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2:48Z</dcterms:modified>
  <cp:revision>8</cp:revision>
  <dc:subject/>
  <dc:title>Slide 1</dc:title>
</cp:coreProperties>
</file>