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All the World Was C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AS FRAG ICH NACH DER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hasverus Fritsch, 1629-1701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hen *** *** ***** *** cur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*' condem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int **** *** ***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 consol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 **********'* z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* ** nam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, ** *** unkn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** ** proclaim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efore ***** **** *** b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 ****** meet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ssing *** **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 ** *** greet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**'* ******* strea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 ****** b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*** **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******** *** foret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ehold *** **** **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 *** *****'* transgress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*** remo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'* ***** oppress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*** **** **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 **** *** s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 *** ***** *** j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**** ********* w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*****, **** **** **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****, rejoi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****** ** Joh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 ********** voic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* ** *** wal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on *** ******'*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** **** ****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****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41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1:38Z</dcterms:modified>
  <cp:revision>10</cp:revision>
  <dc:subject/>
  <dc:title>Slide 1</dc:title>
</cp:coreProperties>
</file>