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t Up Your Heads, You Mighty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ACHT HOCH DIE 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org Weissel, 1590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A. Freylinghausen, 1670-17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ift up your heads you mighty gat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 the King of Glory wa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ing of kings is drawing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of the world is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 and salvation he will br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 rejoice and gladly s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Father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joyful song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King is born in pover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ariot is humil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kingly crown is holi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scepter, pity in distr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nd of all our woe he bring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 the earth is glad and s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hrist the Savior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grateful hymn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w blest the land, the city bl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Christ the ruler is confess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peaceful hearts and happy h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whom this King in triumph com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oudless sun of joy is 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to set his peopl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Spirit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happy shout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ling wide the portals of your he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it a temple set a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arthly use for heav'n's empl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rned with prayer and love and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hall your Sov'reign enter 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ew and nobler life beg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one be p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word and deed and gr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Redeemer, come! I open w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eart to you; here, Lord, abid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enter with your saving gr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me your kind and friendly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Holy Spirit guide us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our glorious goal is w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praise and f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offer to your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34:56Z</dcterms:modified>
  <cp:revision>8</cp:revision>
  <dc:subject/>
  <dc:title>Slide 1</dc:title>
</cp:coreProperties>
</file>