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Christian Worship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od's Own Son Most Ho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GOTTES SOHN IST KOM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Johann Horn, c. 1490-15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Michael Weisse, c. 1480-15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7 - God's Own Son Most Holy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God's own Son most hol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me a servant lowly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me to live among u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me to suffer for u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ore the cross to save u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pe and freedom gave u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7 - God's Own Son Most Holy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Still he comes within us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ill his voice would win u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om the sins that hurt u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ould to truth convert u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om our foolish erro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re he comes in terror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7 - God's Own Son Most Holy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Thus, if we have known hi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will not disown hi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r have loved him coldl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t will trust him boldly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will then receive u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al us, and forgive u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7 - God's Own Son Most Holy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Those who then are loya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nd a welcome royal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e, then, O Lord Jesu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om our sins release u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t us here confess yo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ll in heav'n we bless you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6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6T16:48:41Z</dcterms:modified>
  <cp:revision>8</cp:revision>
  <dc:subject/>
  <dc:title>Slide 1</dc:title>
</cp:coreProperties>
</file>