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anna to the Coming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OM HIMMEL H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Reginald Heber, 1783-18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artin Luther, 1483-15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Hosanna to the Coming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osanna to the coming L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anna to the incarnate W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hrist, Creator, Savior, 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earth, let heav'n hosanna s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Hosanna to the Coming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 Savior, with protecting c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ide in this your house of pray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we your parting promise cla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mbled in your sacred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Hosanna to the Coming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 Advent King, our sins forgiv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in our lives and hearts to li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our humble souls be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emple worthy of your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Hosanna to the Coming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en in the last and dreadful d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earth and heav'n shall melt a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flock, redeemed from sinful sta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swell the sound of praise aga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52:36Z</dcterms:modified>
  <cp:revision>8</cp:revision>
  <dc:subject/>
  <dc:title>Slide 1</dc:title>
</cp:coreProperties>
</file>