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's a Voice in the Wilderness C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SC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ames L. Milligan, 1876-19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Henry H. Bancroft, 1904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There's a Voice in the Wilderness Cr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re's * ***** ** *** ********** cry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 **** *** **** untro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** *** ****** * high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** *** *** Go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 ***** ** exal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*** ******* lo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******** *** *** ******* pla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*** **** *** *** *** 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There's a Voice in the Wilderness Cr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**********, *** ***** **** tiding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 ** ** *** ******* *** s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laim ** * ********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 *****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*** ****'** ** *** ***** **** peris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***** ***** ***** dec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'* *** **** ** n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**** **** * ***** a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There's a Voice in the Wilderness Cr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But *** **** ** *** *** ** eterna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 ** *** **** ** str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 *** ***** ** *** n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 ***** ***** *** wr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* *** ***** **** * shephe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*** ****** ho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*** ** ***** ***** **** the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* **** ** *** f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5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Church Pension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Estate of Eldred Bancr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4:45Z</dcterms:modified>
  <cp:revision>10</cp:revision>
  <dc:subject/>
  <dc:title>Slide 1</dc:title>
</cp:coreProperties>
</file>