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joice, Rejoice,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AF TRONES LAMPA FÄR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urentius Laurenti, 1660-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ymnal and Order of Service, Rock Island, 1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Rejoice, rejoice, believe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your light app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ening is advan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arker night is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r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on is drawing nig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pray and watch and wrest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midnight comes the c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watchers, on the mount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the Bridegroom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 forth, as he approach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eluias cl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rriage feast is wait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wide open st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e, O heirs of glor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t h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You saints, who here in pat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cross and suff'rings b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live and reign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sorrow is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nd the throne of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b you shall beho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riumph lay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hining crowns of g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rise, Desire of nation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now app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ope and Expec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ev'ry Christian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earts and hands uplif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plead, O Lord, to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of earth's redem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ets your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8:52Z</dcterms:modified>
  <cp:revision>8</cp:revision>
  <dc:subject/>
  <dc:title>Slide 1</dc:title>
</cp:coreProperties>
</file>