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dvent of Our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aron Williams, 1731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advent of our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prayers must now empl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must hymns of welcome 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trains of holy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everlasting S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arnate deigns to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self a servant's form put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et his servants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Zion's Daughter, r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eet your lowly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let a faithless heart desp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e he comes to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s judge, on clouds of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oon will come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is true members all un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im in heav'n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Before the dawning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sin's dark deeds be g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nful self be put a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self now put 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All glory to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us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ather, Spirit, ever 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2:58Z</dcterms:modified>
  <cp:revision>8</cp:revision>
  <dc:subject/>
  <dc:title>Slide 1</dc:title>
</cp:coreProperties>
</file>