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! A Thrilling Voice Is S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c. 6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H. Monk, 1823-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! A thrilling voice is soun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near," we hear it s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ast away the works of darkn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are children of the day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o, the Lamb, so long-expec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with pardon down from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aste, with tears of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and all, to be forgiv'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at, when next he comes with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world is wrapped in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may shield us with his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words of love draw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onor glory, might, dom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everlasting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eternal ages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1:20:49Z</dcterms:modified>
  <cp:revision>9</cp:revision>
  <dc:subject/>
  <dc:title>Slide 1</dc:title>
</cp:coreProperties>
</file>