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sus, Your Church with Longing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 JESU CHRISTE, WAHRES 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William H. Bathurst, 1796-18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Andächtige Hans-Kirche, Nürnberg, 1676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9 - Jesus, Your Church with Longing Ey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Jesus your Church with longing ey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your expected coming wai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will the promised light ar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lory beam from heaven's gate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9 - Jesus, Your Church with Longing Ey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E'en now, when tempests round us fa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intry clouds o'ercast the sk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words with pleasure we reca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know that our redemption's nig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9 - Jesus, Your Church with Longing Ey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Come, gracious Lord, our hearts rene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sins forgive, our foes suppr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rooted enmity subdu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rown your gospel with succ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9 - Jesus, Your Church with Longing Ey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h, come and reign o'er ev'ry lan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Satan from his throne be hurl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nations bow to your comman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grace revive a dying wor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9 - Jesus, Your Church with Longing Ey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Teach us in watchfulness and pray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wait for your appointed hou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it us by your grace to sh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iumphs of your conqu'ring pow'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40:50Z</dcterms:modified>
  <cp:revision>8</cp:revision>
  <dc:subject/>
  <dc:title>Slide 1</dc:title>
</cp:coreProperties>
</file>