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Christi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vior of the Nations,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NUN KOMM, DER HEIDEN HEI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Ambrose of Milan, 340-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Johann Walther, 1496-15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 - Savior of the Nations, Co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Savior of the nations, com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rgin's Son, make here your hom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vel now, O heav'n and earth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the Lord chose such a birth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 - Savior of the Nations, Co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Not by human flesh and bloo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the Spirit of our G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s the Word of God made flesh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man's offspring, pure and fresh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 - Savior of the Nations, Co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Wondrous birth! O wondrous Chil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the Spirit undefile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ough by all the world disowne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et to be in heav'n enthroned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 - Savior of the Nations, Co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From the Father's throne he ca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ascended to the sam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ptive leading death and hell--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gh the song of triumph swell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 - Savior of the Nations, Co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Praise to God the Father s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ise to God the Son, our K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ise to God the Spirit b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er and eternall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8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6T16:33:57Z</dcterms:modified>
  <cp:revision>8</cp:revision>
  <dc:subject/>
  <dc:title>Slide 1</dc:title>
</cp:coreProperties>
</file>