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ise, O Christia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US MEINES HERZENS GRU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Valentin Thilo, 1607-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New Catechismus Gesangbüchlein, Hamburg, 1598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4 - Arise, O Christian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Arise, O Christian peopl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e yourselves tod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e to greet the Savio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takes your sins aw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us by grace al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uth and light were give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omised Lord from heav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all the world is show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4 - Arise, O Christian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Prepare the way before him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e for him the be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t out what would offend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great, this heav'nly gu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straight, make plain the w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owly valleys rai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eights of pride aba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path all even l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4 - Arise, O Christian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e humble heart and low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raises up on hig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ath his feet in terr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aughty soul shall li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eart sincere and r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heeds God's invi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makes true preparation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the Lord's de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4 - Arise, O Christian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Prepare my heart, Lord Jesu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urn not from me asid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lp me to receive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blessed Adventtid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stall and manger l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now to dwell within 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'll sing your praises glad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orth your glory show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45:44Z</dcterms:modified>
  <cp:revision>8</cp:revision>
  <dc:subject/>
  <dc:title>Slide 1</dc:title>
</cp:coreProperties>
</file>