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hristi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t Up Your Heads, You Mighty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ILWAU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org Weissel, 1590-1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ugust Lemke, 1820-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ift up your heads, you mighty gate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old the King of glory wai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King of kings is drawing n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or of the world is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 and salvation he will br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fore rejoice and gladly s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the Father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joyful song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King is born in pover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chariot is humili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kingly crown is holi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scepter, pity in distr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nd of all our woe he bring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fore the earth is glad and s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hrist the Savior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grateful hymn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ow blest the land, the city bl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Christ the ruler is confesse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peaceful hearts and happy ho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whom this King in triumph come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loudless sun of joy is 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comes to set his people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the Spirit 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happy shouts of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Fling wide the portals of your hear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it a temple set a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earthly use for heav'n's emplo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rned with prayer and love and jo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shall your sov'reign enter 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new and nobler life beg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alone be p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word and deed and grac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Lift Up Your Heads, You Mighty Gat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Redeemer, come! I open w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eart to you; here, Lord, abid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enter with your saving gra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 me your kind and friendly 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Holy Spirit guide us 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 our glorious goal is w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ernal praise and f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offer to your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6T16:35:55Z</dcterms:modified>
  <cp:revision>8</cp:revision>
  <dc:subject/>
  <dc:title>Slide 1</dc:title>
</cp:coreProperties>
</file>