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hristi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 Angels Joyed with One Ac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UER NOBIS NASCI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Werner H. Franzmann, 1905-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Michael Prätorius, 1571-16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5 - As Angels Joyed with One Acc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As ****** ***** **** *** ac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on *** ****** ** *** Lor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**** ** *** *** ***** *** n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*** *** **** *** ****** ca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5 - As Angels Joyed with One Acc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He ****, *** ******* ** majes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 ***'* **** ***** *** deit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***** ***** ** ****** **** h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***** *** ** ******** fr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5 - As Angels Joyed with One Acc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This ****, ** ****** ** ***'* ***** han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et ******** *** *** ****** ban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**, *** ***** ** ***** *** pow'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ends *** *** **** *** *** hou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5 - As Angels Joyed with One Acc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In **'** ***--*** ****** abound-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*****; ** **** *** ***** resoun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******** ****** **** *** cea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***** ** *******, ***, *** pe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5 - As Angels Joyed with One Acc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He ***** ** ***** ** *** chil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**** **, **** ***** defil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******* ***** *** ****'**** gr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* *** ******'* ****** f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5 - As Angels Joyed with One Acc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6] He ***** ** ** ** ***** *** w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**** *******--*** ***** divin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****** *** *** **** sacramen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eeming ****'* ***** testament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5 - As Angels Joyed with One Acc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7] Lift ** **** *****! *** ***** *** pa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****** **** ** ***** agai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** ***** *** *** **** ** f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*** ***** ***** **** * pl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3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1993 Werner H. Franz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6T16:36:54Z</dcterms:modified>
  <cp:revision>10</cp:revision>
  <dc:subject/>
  <dc:title>Slide 1</dc:title>
</cp:coreProperties>
</file>