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hristi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e, O Precious Ransom,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EINEN JESUM LASS ICH N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ohann G. Olearius, 1635-17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Neu-verfertigtes Darmstädtis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sang-Buch, 1699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8 - Come, O Precious Ransom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Come, O precious Ransom, co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y Hope for sinful mortal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, O Savior of the worl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 are to you all portal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, your beauty let us view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xiously we wait for you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8 - Come, O Precious Ransom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Enter now my waiting hear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rious King and Lord most ho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well in me and ne'er depar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ugh I am but poor and low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h, what riches will be m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you are my guest divin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8 - Come, O Precious Ransom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My hosannas and my pal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ciously receive, I pray you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rmore, as best I ca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vior, I will homage pay you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in faith I will embr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rd, your merit through your gr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8 - Come, O Precious Ransom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Hail, hosanna, David's So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, Lord; hear our supplicatio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your kingdom, scepter, crow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ng us blessing and salv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forever we may s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il, hosanna! to our K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6T16:39:51Z</dcterms:modified>
  <cp:revision>8</cp:revision>
  <dc:subject/>
  <dc:title>Slide 1</dc:title>
</cp:coreProperties>
</file>