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ridegroom Soon Will Cal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CH GOTT VOM HIMMEL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Walter, 1496-1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Prätorius, 1571-16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e Bridegroom Soon Will Call 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Bridegroom soon will call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ke off your drowsy sleep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t carelessness befall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watchful vigil keep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all our lamps be bur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oil enough and m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e, with him retur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find an open doo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e Bridegroom Soon Will Call 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re shall we see in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dear Redeemer's f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ng-awaited 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heav'nly joy takes plac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atriarchs shall meet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phets' holy fea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ostles, martyrs greet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at celestial l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e Bridegroom Soon Will Call 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re God shall from all ev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ver make us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sin and from the devi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all advers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sickness, pain, and sa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roubles, cares, and fea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rant us heav'nly gla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pe away our tea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e Bridegroom Soon Will Call 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In that fair home shall n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silent music's voi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earts and lips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shall in God rejoi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angel hosts are ra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saints from great to le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ighty hymn for pra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iver of the fea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41:49Z</dcterms:modified>
  <cp:revision>8</cp:revision>
  <dc:subject/>
  <dc:title>Slide 1</dc:title>
</cp:coreProperties>
</file>