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hristi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Jordan's Bank the Baptist's C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UER NOBIS NASCI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Charles Coffin, 1676-17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Michael Prätorius, 1571-16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6 - On Jordan's Bank the Baptist's C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n Jordan's bank the Baptist's c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nounces that the Lord is nigh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, then, and listen, for he br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od news about the King of king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6 - On Jordan's Bank the Baptist's C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en cleansed be ev'ry life from s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furnished for a guest withi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et us all our hearts prep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Christ to come and enter the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6 - On Jordan's Bank the Baptist's C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We hail you as our Savior L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refuge and our great rewar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out your grace we waste aw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ke flow'rs that wither and dec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6 - On Jordan's Bank the Baptist's C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Stretch forth y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nd, our health resto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ift us up to fall no 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make your face on us to shi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fill the world with love divi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6 - On Jordan's Bank the Baptist's C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All praise to you, eternal S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se advent has our freedom w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m with the Father we ado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oly Spirit 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6T16:47:42Z</dcterms:modified>
  <cp:revision>8</cp:revision>
  <dc:subject/>
  <dc:title>Slide 1</dc:title>
</cp:coreProperties>
</file>