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ALET WILL ICH DIR 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elchior Teschner, 1584-1635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let your Word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mp to light my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how me how to pleas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uide me ev'ry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r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Rejoice, then, you sad-hear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it in deepest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mourn o'er joys dep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remble at your do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air not; he is near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's standing at the do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st can help and chee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ids you weep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in's debt, that fearful burd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ot your souls distr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uilt the Lord will par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ver by his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mes, for you pro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of sin forgiv'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ildren thus secu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eritage in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e comes to judge the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ror to his fo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ght of consol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ed hope to t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love the Lord's appe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most chee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50:39Z</dcterms:modified>
  <cp:revision>8</cp:revision>
  <dc:subject/>
  <dc:title>Slide 1</dc:title>
</cp:coreProperties>
</file>