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712960" y="6400800"/>
            <a:ext cx="37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Hymn words omitted due to copyright re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see ending credits for acknowledg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Christi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Savior, Rend the Heavens 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O HEILAND, REISS DIE HIMMEL A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Friedrich von Spee, 1591-16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Rheinfelssisch Deutsches Catholisches Gesangbu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sburg, 16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2 - O Savior, Rend the Heavens Wid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O ****** **** *** ******* wid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 ****, **** **** **** ****** strid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ock *** *****, *** ***** ***** down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bar *** *** ** ******'* crow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2 - O Savior, Rend the Heavens Wid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O ******* ****, * ******* Daw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**** ** **** **** ******* song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, *** ** ***! ******* **** l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***** ** ***** *** ***** ** nigh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2 - O Savior, Rend the Heavens Wid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Sin's ******** **** **** ** lie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im ***** ***** ****** ****** *** ey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****, **** ** **** ****** ha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***** ** *** ******** lan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2 - O Savior, Rend the Heavens Wid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There ***** ** *** *** ******* br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* ** ***, *** Savior-K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***** ** **** *** *** ado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ever *** foreverm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7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© 1969 Concordia Publishing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6T16:53:35Z</dcterms:modified>
  <cp:revision>10</cp:revision>
  <dc:subject/>
  <dc:title>Slide 1</dc:title>
</cp:coreProperties>
</file>