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ngel Gabriel from Heaven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ABRIEL'S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Basque carol, para. Sabine Baring-Gould, 1834-19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Basque, c. 18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The Angel Gabriel from Heaven C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***** ******* **** ****** c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 ** ******* ****, *** **** ** fla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All ****," **** ** ** **** *** ***** Ma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Most ****** ******* ******." Glor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The Angel Gabriel from Heaven C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"I **** **** ****'* ** **** *** ****'* dec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** ****** ****** *** *****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 ***** ** ********, ** ***** foreto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****** ******* ******." Glor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The Angel Gabriel from Heaven C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n ****** **** ****** ***** *** hea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To ** ** ** ** ******* ***," *** sai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My **** ***** ****** *** ******* *** **** name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****** ******* ******. Glor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The Angel Gabriel from Heaven Ca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f *** ********, *** ******, *** b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*****, *** ** * ********* mo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** **** *********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** ***** **** **** s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Most ****** ******* ******." Glor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Church Pension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55:32Z</dcterms:modified>
  <cp:revision>10</cp:revision>
  <dc:subject/>
  <dc:title>Slide 1</dc:title>
</cp:coreProperties>
</file>