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Christi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King Shall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ON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John Brownlie, 1859-19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John Wyeth, Repository of Sac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sic, Harrisburg, 18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 - The King Shall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The King shall co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morning daw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light triumphant break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beauty gilds the eastern hi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life to joy awakes--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 - The King Shall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Not as of old a little chil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bear and fight and di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crowned with glory like the su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lights the morning sk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 - The King Shall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Oh, brighter than the rising mor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Christ, victorious, ro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left the lonesome place of dea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pite the rage of fo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 - The King Shall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Oh, brighter than that glorious mor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dawn upon our r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day when Christ in splendor com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we shall see his fa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 - The King Shall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The King shall co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morning daw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light and beauty bring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il, Christ the Lord! Your people pra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 quickly, King of kings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8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6T16:56:32Z</dcterms:modified>
  <cp:revision>8</cp:revision>
  <dc:subject/>
  <dc:title>Slide 1</dc:title>
</cp:coreProperties>
</file>