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 Down, O Love Di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OWN AMP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Bianco da Siena, c. 1350-1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Ralph V. Williams, 1872-19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Come Down, O Love Divi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 down, O Love divi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k Thou this soul of m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visit it with Thine own ardor glow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omforter, draw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in my heart app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kindle it, Thy holy flame bestow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Come Down, O Love Divi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let it freely bu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earthly passions tu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dust and ashes in its heat consum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Thy glorious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 ever on my s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lothe me round, t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my path illum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11:41Z</dcterms:modified>
  <cp:revision>6</cp:revision>
  <dc:subject/>
  <dc:title>Slide 1</dc:title>
</cp:coreProperties>
</file>