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w May He Who from the D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RIENTIS PARTI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n Newton, 1725-18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Pierre de Corbeille, d. 1221, ada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9 - Now May He Who from the Dea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Now may He who from the de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ought the Shepherd of the sheep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Christ, our King and Hea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our souls in safety keep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9 - Now May He Who from the Dea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May He teach us to fulfi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pleasing in His s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ect us in all His wil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preserve us day and night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9 - Now May He Who from the Dea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o that dear Redeemer's prais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the cov'nant sealed with bloo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our hearts and voices ra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ud thanksgivings to our Go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21:20Z</dcterms:modified>
  <cp:revision>6</cp:revision>
  <dc:subject/>
  <dc:title>Slide 1</dc:title>
</cp:coreProperties>
</file>