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All that Dwell Below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ASST UNS ERFRE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Isaac Watts, 1674-17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usserlesene, Catholische, Geist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rchengesäng, Köln, 1623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From All that Dwell Below the Ski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From all that dwell below the sk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Creator's praise ar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Redeemer's name be su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ev'ry land, by ev'ry tong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Alleluias] 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From All that Dwell Below the Ski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ternal are Thy mercies, L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truth attends Thy W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praise shall sound from shore to sh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suns shall rise and set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Alleluias] 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8:27Z</dcterms:modified>
  <cp:revision>6</cp:revision>
  <dc:subject/>
  <dc:title>Slide 1</dc:title>
</cp:coreProperties>
</file>