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All the World in Every Corner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DIQUE GL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e Herbert, 1593-1632 (st. 1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xology author unknown, 1872 (st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orge J. Elvey, 1816-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et All the World in Every Corner 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et all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v'ry corner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God and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av'ns are not too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praise may thither fl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arth is not too l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praises there may gr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all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v'ry corner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God and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et All the World in Every Corner 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et all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v'ry corner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God and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urch with psalms must shou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door can keep them ou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, above all, the he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t bear the longest p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all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v'ry corner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God and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et All the World in Every Corner 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Let all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v'ry corner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God and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, with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pirit, Three in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everlasting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evermore ador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all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v'ry corner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God and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24:14Z</dcterms:modified>
  <cp:revision>6</cp:revision>
  <dc:subject/>
  <dc:title>Slide 1</dc:title>
</cp:coreProperties>
</file>