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ly, Holy, Holy! Lord God Almigh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IC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Reginald Heber, 1783-18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B. Dykes, 1823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oly, Holy, Holy! Lord God Almigh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oly, holy, holy! Lord God Almigh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ly in the morning 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g shall rise to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, holy, holy, merciful and migh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n Three Persons, blessed Trini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oly, Holy, Holy! Lord God Almigh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oly, holy, holy! 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ints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ting down their go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wns around the glassy sea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rubim and serap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ing down bef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wert and art and evermore shall b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oly, Holy, Holy! Lord God Almigh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ly, holy, holy! Thou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rkness hid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the eye of sin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 Thy glory may not se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Thou art holy;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none besid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 in pow'r, in love, and pur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Holy, Holy, Holy! Lord God Almigh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oly, holy, holy! Lord God Almigh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y works shall praise Th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 in earth and sky and se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, holy, holy, merciful and migh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n Three Persons, blessed Trini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7:28Z</dcterms:modified>
  <cp:revision>6</cp:revision>
  <dc:subject/>
  <dc:title>Slide 1</dc:title>
</cp:coreProperties>
</file>