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Jesus'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 JESU NA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. Frederiksen, 1603-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Kingo's Gradual, 16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In Jesus'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In Jesus'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work must all be d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it shall compass our true good and 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ot end in shame al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ev'ry d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in it doth proce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In Jesus'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ccess and blessing g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it the goal attai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s we honor God on hi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urselves are blessed thereb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in our true good remai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In Jesus'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In Jesus'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praise our God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blesses them w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abroad His f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do His will thereb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'er hath the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In Jesus'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e great things by His W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till doth bare His a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wonders to perfor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nce we should in ev'ry cl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gnify His name subli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oth shield us from all har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In Jesus'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n Jesus'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live and we will di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n we live, His love we will proclai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die, we gain thereb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Jesus' n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from heav'n to us c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In Jesus'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shall again a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eet Him in the ski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at last, saved by His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shall see Him face to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 with Him in Parad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6:51Z</dcterms:modified>
  <cp:revision>6</cp:revision>
  <dc:subject/>
  <dc:title>Slide 1</dc:title>
</cp:coreProperties>
</file>