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Holy Ghost, God and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MM, HEILIGER GEIST, HERRE G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rman hymn, 15th cent. (s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tin Luther, 1483-1546 (st. 2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yn Enchiridion oder Handbüchlein, Erfurt, 15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Come, Holy Ghost, God and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Holy Ghost, God and L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all Thy graces now outpo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each believer's mind and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fervent love to them imp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by the brightness of Thy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in the faith doth men un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ev'ry land and ev'ry tongu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to Thy praise, 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our God, be su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Come, Holy Ghost, God and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ou holy Light, Guide Div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ause the Word of Life to sh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us to know our God a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all Him Father with de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v'ry error keep us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one but Christ our Master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 in living faith ab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Him, our Lord, with all our might conf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Come, Holy Ghost, God and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u holy Fire, Comfort tru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us the will Thy work to 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Thy service to ab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rials turn us not as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by Thy pow'r prepare each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o our weakness strength im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bravely here we may cont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life and death 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e, our Lord, asc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3:58Z</dcterms:modified>
  <cp:revision>6</cp:revision>
  <dc:subject/>
  <dc:title>Slide 1</dc:title>
</cp:coreProperties>
</file>