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Hymnary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ssed Jesus, at Th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IEBSTER J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Tobias Clausnitzer, 1619-84 (st. 1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istreiches Gesang-Büchlein, Berlin, 1707 (st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R. Ahle, 1625-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Blessed Jesus, at Thy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Blessed Jesus, at Thy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have gathered all to hear Th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our hearts and souls be stir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o seek and love and fear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y teachings, sweet and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n from earth to love Thee sole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Blessed Jesus, at Thy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All our knowledge, sense, and s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 in deepest darkness shrou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Thy Spirit breaks our n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beams of truth uncloud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 alone to God canst win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 must work all good within 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Blessed Jesus, at Thy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Glorious Lord, Thyself im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ht of Light, from God proceed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Thou our ears and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us by Thy Spirit's plead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the cry Thy people rais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and bless our prayers and prai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Blessed Jesus, at Thy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Father, Son, and Holy Gho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to Thee and ador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that we Thy Word may tru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btain true conso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we here below must wand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we sing Thy praises yond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15:03:00Z</dcterms:modified>
  <cp:revision>6</cp:revision>
  <dc:subject/>
  <dc:title>Slide 1</dc:title>
</cp:coreProperties>
</file>