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Holy Ghost,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thor unknown, c. 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Felice de Giardini, 1716-96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e, Holy Ghost, in L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Holy Ghost,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d on us from ab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e own bright r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inely good Thou 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sacred gift im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ladden each sad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ome tod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e, Holy Ghost, in L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Come, tend'rest Friend and b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most delightful Gu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soothing pow'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 which the weary k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de mid the noontide gl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ace when deep griefs o'erfl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er us this hou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e, Holy Ghost, in L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Light serene and sti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inmost bosoms fi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well in each bre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know no dawn but Thin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Thy beams div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our dark souls to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 us bl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e, Holy Ghost, in L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Exalt our low desir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inguish passion's fir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ev'ry wou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tubborn spirits b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icy coldness 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devious steps att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heav'nward bou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Come, Holy Ghost, in L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ome, all the faithful bl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we Christ conf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praise empl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virtue's rich rewa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ctorious death ac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, with our glorious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3:36Z</dcterms:modified>
  <cp:revision>6</cp:revision>
  <dc:subject/>
  <dc:title>Slide 1</dc:title>
</cp:coreProperties>
</file>