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Evangelical Lutheran Hymnary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ly Ghost, Dispel Our Sad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GENE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Paul Gerhardt, 1607-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George H. Day, 1883-19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0 - Holy Ghost, Dispel Our Sadness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Holy Ghost, dispel our sadness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erce the clouds of sinful night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e, Thou source of sweetest gladnes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reathe Thy life and spread Thy light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ar, O hear our supplication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ving Spirit, God of peace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st upon this congregation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eat distributer of grace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0 - Holy Ghost, Dispel Our Sadness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From the heigh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ich knows no measu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 a gracious show'r descen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ringing down the richest treasu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 can wish, or God can send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ke us flee what Thou refusest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oth from error and from si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ke us joy in what Thou choosest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ly Fountain, wash us clea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0 - Holy Ghost, Dispel Our Sadness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Be our friend on each occasion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d, omnipotent to save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n we die, be our salvation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n we're buried be our grav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at us with Thy saints in glory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n from out the grave we ris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n forever we'll adore The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ound Thy throne above the skie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4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© Church Pension F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5-01T06:28:50Z</dcterms:modified>
  <cp:revision>7</cp:revision>
  <dc:subject/>
  <dc:title>Slide 1</dc:title>
</cp:coreProperties>
</file>