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God B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. MAG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Nahum Tate, 1652-17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cholas Brady, 1659-17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eremiah Clarke, c. 1674-17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To God Be Glo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o God be glory, peace on ear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ll mankind good wil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bless, we praise, we worship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lorify Thee sti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To God Be Glo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And thanks for Thy great glory gi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fills our soul with l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Lord, our heav'nly King, the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ather of all migh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To God Be Glo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And Thou, begotten Son of G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fore all time begu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Jesus Christ, Thou Lamb of G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's only So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To God Be Glo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ave mercy, Thou that tak'st the s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all the world awa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mercy, Savior of manki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ar us when we pra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To God Be Glo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O Thou, who sitt'st at God's right ha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on the Father's thr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mercy on us Thou, O Chri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art the Holy O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To God Be Glo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Thou only, with the Holy Gho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earth and heav'n ad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glory of the Father 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high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23:16Z</dcterms:modified>
  <cp:revision>6</cp:revision>
  <dc:subject/>
  <dc:title>Slide 1</dc:title>
</cp:coreProperties>
</file>