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, Thou Almighty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TALIAN HY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Author unknown, c. 17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Felice de Giardini, 1716-96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Come, Thou Almighty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, Thou almighty K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us Thy name to s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us to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her all glorio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'er all victorio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and reign over 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cient of Day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Come, Thou Almighty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Jesus our Lord, descen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all our foes defe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 let us fall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ine almighty a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sure defense be mad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souls on Thee be staye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, hear our cal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Come, Thou Almighty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Come, Thou Incarnate Wor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rd on Thy mighty swor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pray'r atte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and Thy people bl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ive Thy Word succes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irit of Holi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us desce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Come, Thou Almighty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Come, holy Comforte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sacred witness b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is glad hou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 who almighty ar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rule in ev'ry hear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ne'er from us dep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irit of pow'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Come, Thou Almighty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To the great One in Thr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ernal praises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nce evermor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sov'reign majes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we in glory s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o etern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 and ad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14:35Z</dcterms:modified>
  <cp:revision>6</cp:revision>
  <dc:subject/>
  <dc:title>Slide 1</dc:title>
</cp:coreProperties>
</file>