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vangelical Lutheran Hymnary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rd Jesus, Though But Two or T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HERR JESU CHRIST, DICH ZU UNS W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Matthias Loy, 1828-19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Cantionale Germanicum, Gochsheim, Dresden, 16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5 - Lord Jesus, Though But Two or Thre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Lord Jesus, though but two or thre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Your dear name assembled b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will among them show Your f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bless them with Your saving gra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5 - Lord Jesus, Though But Two or Thre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In Your dear name again we me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worship humbly at your feet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will Your gracious Word fulfil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cheer us with Your presence stil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5 - Lord Jesus, Though But Two or Thre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Jesus, from whom all blessings flow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peace and comfort now bestow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bide with us till life is o'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keep us Yours forevermo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4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7T15:07:49Z</dcterms:modified>
  <cp:revision>6</cp:revision>
  <dc:subject/>
  <dc:title>Slide 1</dc:title>
</cp:coreProperties>
</file>