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Evangelical Lutheran Hymnary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aise to the F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LOBE DEN HERREN, 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John H. Hopkins Jr., 1820-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Ander Theil Des Erneuer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sang-Buchs, Stralsund, 1665, a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7 - Praise to the Father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Praise to the Father, th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lorious King of creation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well the loud chorus, y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osen of every nation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my soul, wake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rp, lute and psaltery tak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und forth thy true adoratio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7 - Praise to the Father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Praise to the Son: for the cro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once shamefully bore Him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w, on the throne of His pow'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all creatures adore Him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n reigns on high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! all the hosts of the sk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ow down and worship before Him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7 - Praise to the Father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Praise to the Spirit, who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rong, rushing wind, ever blow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ill through the worl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resoever it wisheth, is goin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rkness and deat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rink, from Thy quickening breat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fe, light, and joy overflowin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7 - Praise to the Father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Lord God Almighty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ator, Redeemer, and Giver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y praise resounds by th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ore of the bright crystal river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, too, would fai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choing humbly the strai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aise Thee for ever and ever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6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7T15:09:45Z</dcterms:modified>
  <cp:revision>6</cp:revision>
  <dc:subject/>
  <dc:title>Slide 1</dc:title>
</cp:coreProperties>
</file>