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the Father, Be Our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TT DER VATER WOHN UNS B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artin Luther, 1483-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God, the Father, be our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 let us perish n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 us from our sins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rant us lif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us from the evil 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hold our faith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us to trust Thee sol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umble hearts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put God's armor 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true Christians r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v'nly race and sh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vil's wiles and cun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, amen! This be d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ing we, "Alleluia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Jesus Christ, be Thou our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 let us perish n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 us from our sins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rant us lif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us from the evil 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hold our faith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us to trust Thee sol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umble hearts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put God's armor 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true Christians r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v'nly race and sh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vil's wiles and cun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, amen! This be d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ing we, "Alleluia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ly Ghost, be Thou our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 let us perish n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 us from our sins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rant us lif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us from the evil 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hold our faith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us to trust Thee sol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umble hearts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put God's armor 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true Christians r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v'nly race and sh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vil's wiles and cun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, amen! This be d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ing we, "Alleluia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riune God, be Thou our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 let us perish n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 us from our sins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rant us lif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us from the evil 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hold our faith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us to trust Thee sol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umble hearts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God the Father, Be Our St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put God's armor 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true Christians r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v'nly race and shu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vil's wiles and cun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, amen! This be d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ing we, "Alleluia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20:23Z</dcterms:modified>
  <cp:revision>6</cp:revision>
  <dc:subject/>
  <dc:title>Slide 1</dc:title>
</cp:coreProperties>
</file>