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! Let Praises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E SCHÖN LEUCH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uthor unknown, Geistreiches Gesangbuch, 16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hilipp Nicolai, 1556-1608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6 - Alleluia! Let Praises 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lleluia! Let praises 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Father let us b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ongs of ado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im through everlasting d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worship, honor, pow'r, and p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hand sustains cre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ing, Ring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y, holy, God is hol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the 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our God, the Lord of glo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6 - Alleluia! Let Praises 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lleluia! Let praises 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o the Lamb of God we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whom we are elect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bought His Church with His own blo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leansed her in that blessed flo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s His Bride select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y! Ho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our union And commun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befri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s us joy and peace unend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6 - Alleluia! Let Praises 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lleluia! Let praises 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o the Holy Ghost we 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our regene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ng faith in us He wrou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us unto the Bridegroom brou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us His chosen n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!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 eternal, Bliss superna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man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n endless, glad hosann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6 - Alleluia! Let Praises 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lleluia! Let praises 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o our Triune God we 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est be His name foreve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ngel hosts let us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ing His praises more and m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all His grace and fav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ing, Ring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y, holy, God is holy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the 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our God, the Lord of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08:47Z</dcterms:modified>
  <cp:revision>6</cp:revision>
  <dc:subject/>
  <dc:title>Slide 1</dc:title>
</cp:coreProperties>
</file>