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arest Jesus, Draw Thou Nea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ERDE M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Thomas H. Kingo, 1634-17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Schop, 1600-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Dearest Jesus, Draw Thou Near 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Dearest Jesus, draw Thou near 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y Spirit dwell with mi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now my ear to hear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my heart and seal it Thi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ep me, lead me on my 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e to follow and obe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'er to do Thy will and fear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ejoice to know and hear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Dearest Jesus, Draw Thou Near 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Underneath Thy wings abid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y Church, O Savior d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me dwell, in Thee confid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d me in Thy faith and f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away from me each thou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ith wickedness is frau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mpting me to disobey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ot it out, O Lord, I pray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Dearest Jesus, Draw Thou Near 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ou, earth's greatest joy and glad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alvation, full and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y presence cheer my sad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prepare my soul for The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hour when I de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uch my spirit, lips and he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y word assure, uphold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the heav'nly gates enfold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15:32Z</dcterms:modified>
  <cp:revision>6</cp:revision>
  <dc:subject/>
  <dc:title>Slide 1</dc:title>
</cp:coreProperties>
</file>