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, Let Us with Our Lord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ATER UN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Wesley, 1707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artin Luther, 1483-15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b - Come, Let Us with Our Lord Aris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, let us with our Lord ari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Lord, who made both earth and ski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died to save the world He mad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rose triumphant from the dea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rose, the Prince of life and pe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tamped this day forever Hi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b - Come, Let Us with Our Lord Aris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is is the day the Lord hath mad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all may see his pow'r display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know His resurrection's pow'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rise by grace and fall no mo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His own righteousness renew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illed with all the life of Go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2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05:53Z</dcterms:modified>
  <cp:revision>6</cp:revision>
  <dc:subject/>
  <dc:title>Slide 1</dc:title>
</cp:coreProperties>
</file>