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Jesus Christ, Be Presen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R JESU CHRIST, DICH ZU UNS W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utherische Hand-Büchlein, 2nd ed., Altenburg, 16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Cantionale Germanicum, Gochsheim, Dresden, 16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 Jesus Christ, be present 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Thy Holy Spirit b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hearts in love and fear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ear the truth and keep Thy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Unseal our lips to sing Thy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rts in true devotion 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faith increase, our minds en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 may know Thy name a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Until we join the hosts that c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Holy art Thou, O Lord most high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'mid the light of that blest pl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gaze upon Thee face to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Glory to God the Father,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Three in 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e, O blessed Trin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praise throughout eterni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5:12Z</dcterms:modified>
  <cp:revision>6</cp:revision>
  <dc:subject/>
  <dc:title>Slide 1</dc:title>
</cp:coreProperties>
</file>