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e, Let Us with Our Lord A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E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harles Wesley, 1707-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n B. Dykes, 1823-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a - Come, Let Us with Our Lord Aris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Come, let us with our Lord aris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Lord, who made both earth and ski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died to save the world He mad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rose triumphant from the dea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rose, the Prince of life and pe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tamped this day forever Hi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a - Come, Let Us with Our Lord Aris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is is the day the Lord hath mad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all may see his pow'r display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know His resurrection's pow'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rise by grace and fall no mo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His own righteousness renew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filled with all the life of Go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2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04:55Z</dcterms:modified>
  <cp:revision>6</cp:revision>
  <dc:subject/>
  <dc:title>Slide 1</dc:title>
</cp:coreProperties>
</file>