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ackground$Purp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wake and Sing th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. TH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William Hammond, 1719-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Aaron Williams, 1731-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Awake and Sing the So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Awake and sing the so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Moses and the Lamb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une ev'ry heart and ev'ry tong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praise the Savior's n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Awake and Sing the So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Sing of His dying lo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 of His rising pow'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 how He intercedes ab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ose whose sins He b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Awake and Sing the So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Come, children of His gr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not refuse to 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summon all your pow'rs to p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Savior and your K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Awake and Sing the So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Look back and see the st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in your nature l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wonder at His love so gre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did your ransom p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Awake and Sing the So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May Jesus' Word take pl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isdom in us dwe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he His miracles of g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psalms and hymns may tel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Awake and Sing the So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Tell in angelic stra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Christ has done for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He has taken off your cha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ormed your hearts anew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Awake and Sing the So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7] Leave earthly joys bel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those of worldly tast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k, speak, and sing of nothing n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Christ, the first and la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Awake and Sing the So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8] Sing, for you hear Christ s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Your sins are all forgiv'n.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 forth, rejoicing all the w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inging enter heav'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Don Vossler</cp:lastModifiedBy>
  <dcterms:modified xsi:type="dcterms:W3CDTF">2010-03-27T01:52:17Z</dcterms:modified>
  <cp:revision>7</cp:revision>
  <dc:subject/>
  <dc:title>Slide 1</dc:title>
</cp:coreProperties>
</file>