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Holy Ghost, Creator B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MM, GOTT SCHÖPFER, HEILIGER GE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ttr. Rhabanus Maurus, 776-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arum plainsong, c.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Holy Ghost, Creator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safe within our souls to res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with Thy grace and heav'nly ai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the hearts which Thou hast ma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o Thee, the Comforter, we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e, the Gift of God most h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ount of life, the Fire of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oul's Anointing from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sev'nfold gifts of grace are Th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Finger of the Hand Div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 Promise of the Father Th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st the tongue with speech end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y light to ev'ry thought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hed Thy love in ev'ry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eakness of our mortal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deathless might invigora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Drive far away our wily fo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ine abiding peace best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ou be our protecting Gu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evil can our steps bet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Make Thou to us the Father kn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us th' eternal Son to 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e, whose name we ever bl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both the Spirit, to conf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Come, Holy Ghost, Creator Ble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Praise we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Three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y the Son on us best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ifts that from the Spirit fl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2:38Z</dcterms:modified>
  <cp:revision>6</cp:revision>
  <dc:subject/>
  <dc:title>Slide 1</dc:title>
</cp:coreProperties>
</file>