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rist Is Made the Sure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LAUDA A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Latin, 6th or 7th 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n Goss, 1800-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8 - Christ Is Made the Sure Foundatio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Christ is made the sure founda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, the head and cornersto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osen of the Lord, and precio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nding all the Church in o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ly Zion's help for ev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er confidence alo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8 - Christ Is Made the Sure Foundatio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All that dedicated cit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arly loved of God on hig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exultant jubi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rs perpetual melod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the One in Three ado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glad hymns eternal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8 - Christ Is Made the Sure Foundatio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o this temple, where we call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O Lord of hosts, tod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Thy tender loving kind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r Thy people as they pr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y fullest benedi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d within its walls alw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8 - Christ Is Made the Sure Foundatio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Here vouchsafe to all Thy serva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they ask of Thee to gai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they gain from Thee fore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the blessed to retai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ereafter in Thy gl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more with Thee to reig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8 - Christ Is Made the Sure Foundatio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Laud and honor to the Fath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ud and honor to the S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ud and honor to the Spiri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 Three and ever O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in might, and One in glor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unending ages ru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15:10:43Z</dcterms:modified>
  <cp:revision>6</cp:revision>
  <dc:subject/>
  <dc:title>Slide 1</dc:title>
</cp:coreProperties>
</file>