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rd, Open Thou My Heart to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RHALT UNS, HE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Olearius, 1611-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seph Klug, Geistliche Lieder, Wittenberg, 1543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Lord, Open Thou My Heart to Hea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ord, open Thou my heart to h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rough Thy Word to me draw n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me Thy Word e'er pure retai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me Thy child and heir rema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Lord, Open Thou My Heart to Hea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y Word doth deeply more the he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Word doth perfect health imp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Word my soul with joy doth bl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Word brings peace and happin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Lord, Open Thou My Heart to Hea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o God the Father, God the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od the Spirit, Three in 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glory, praise, and honor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and throughout etern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26:10Z</dcterms:modified>
  <cp:revision>6</cp:revision>
  <dc:subject/>
  <dc:title>Slide 1</dc:title>
</cp:coreProperties>
</file>