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712960" y="6400800"/>
            <a:ext cx="371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Hymn words omitted due to copyright re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(see ending credits for acknowledg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vangelical Luther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ght One Candle to Watch for Messi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TIF IN VELD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Wayne L. Wold, b. 19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Yiddish folk t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0 - Light One Candle to Watch for Messiah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Light *** ****** ** ***** *** Messiah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*** ***** ****** darknes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***** ***** ********* ** Israel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******** *** promis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0 - Light One Candle to Watch for Messiah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Light *** ******* ** ***** *** Messiah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*** ***** ****** darknes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***** **** *** ***** **** * shepher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tly **** **** homewar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0 - Light One Candle to Watch for Messiah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Light ***** ******* ** ***** *** Messiah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*** ***** ****** darknes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t **** ***** *** **** **** *** gatew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*** **** ** glor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0 - Light One Candle to Watch for Messiah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Light **** ******* ** ***** *** Messiah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*** ***** ****** darknes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** ******, **** *** **** tiding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**** ****** ** shining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7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© 1984 Fortress 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8T01:18:03Z</dcterms:modified>
  <cp:revision>10</cp:revision>
  <dc:subject/>
  <dc:title>Slide 1</dc:title>
</cp:coreProperties>
</file>