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t in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LOST IN THE 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Nordic hy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Finnish folk t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3 - Lost in the Nigh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Lost ** *** ***** ** *** ****** *** languis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nging *** ******* *** ******** ** vanquis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intively ******* **** ****** **** ** anguis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*** *** **** ****? **** *** *** **** soo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3 - Lost in the Nigh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Must ** ** ****** ******** *** morrow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***** *** **** ***** ** ***** *** ** borro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ing ** **** ** *** ****** ** sorrow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*** **** ** ****? **** *** **** ** soo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3 - Lost in the Nigh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Sorrowing ****'****, ** ******** *** dwell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wned *** *** *** ** * ******** excell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ath's ******* ******* ******* dispell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 ** ****** ****! ****** ** ****** soo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3 - Lost in the Nigh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Light *'** *** **** ** *** ***** ** beam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vers ** **** ******* *** ******* *** stream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nging *** ******* * ****** redeem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*** **** ** ****! **** *** **** ** soo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7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32 Augsburg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01:20:57Z</dcterms:modified>
  <cp:revision>10</cp:revision>
  <dc:subject/>
  <dc:title>Slide 1</dc:title>
</cp:coreProperties>
</file>