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7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Come, O Come, Em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NI, EM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salteriolum Cantionum Catholicarum, Köln, 1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15th cent.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Lord of m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b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 come, O come, O Lord of m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o your tribes on Sinai's he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ncient times you gave the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loud, and majesty, and aw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3-27T03:27:27Z</dcterms:modified>
  <cp:revision>10</cp:revision>
  <dc:subject/>
  <dc:title>Slide 1</dc:title>
</cp:coreProperties>
</file>