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7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Come, O Come, Em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NI, EMMAN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salteriolum Cantionum Catholicarum, Köln, 17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lainsong melody, 15th cent.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King of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f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7] O ****, * **** ** *******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******** **** ***** ** on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esh *** ****** **** **** *** you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ore *** ******, **** ** ne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1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97 Augsburg Fortress (st. 2, 6,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Don Vossler</cp:lastModifiedBy>
  <dcterms:modified xsi:type="dcterms:W3CDTF">2010-03-27T03:27:57Z</dcterms:modified>
  <cp:revision>11</cp:revision>
  <dc:subject/>
  <dc:title>Slide 1</dc:title>
</cp:coreProperties>
</file>