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Winter as the Year Grows 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AROL OF H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William Gay, b. 19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Annabeth Gay, b. 19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2 - Each Winter as the Year Grows Olde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Each ****** ** *** **** ***** old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**** **** *****, to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 **** ** * ****** colde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** ** kn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m ****** *** untru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2 - Each Winter as the Year Grows Olde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When **** *** ***** *** *** *** trea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****** **** *** w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****-***** *** ***** ** rea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* **** ** ign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** **** **** bef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2 - Each Winter as the Year Grows Olde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Yet * ******* ****** believ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** *** ****** **** deat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**** *** ****** **** *** griev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 *** ***** *** br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 ********** ** fai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2 - Each Winter as the Year Grows Olde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So **** ** *** *** ** tur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*** ** *** nort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 *****, ** ****** burn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****** ** *** ear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 ***'* **** ** bir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2 - Each Winter as the Year Grows Olde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O ***** ** ******* *** sorrow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*** ** ***** *** pa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ghten *****'* ***** ** tomorrow'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new *** ***** agai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 *****, **** *** reig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9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71 United Church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© 1971 United Church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29:37Z</dcterms:modified>
  <cp:revision>10</cp:revision>
  <dc:subject/>
  <dc:title>Slide 1</dc:title>
</cp:coreProperties>
</file>