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, Thou Long-Expected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JEFF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arles Wesley, 1707-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William Walker, Southern Harmony, 18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4 - Come, Thou Long-Expected Jesu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Come, thou long-expected Jes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n to set thy people fre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our fears and sins release u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us find our rest in th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rael's strength and consol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pe of all the earth thou 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ar desire of ev'ry n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y of ev'ry longing hear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4 - Come, Thou Long-Expected Jesu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Born thy people to deliv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n a child, and yet a k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n to reign in us forev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thy gracious kingdom b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thine own eternal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le in all our hearts alo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thine all-sufficient me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ise us to thy glorious thro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2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01:31:33Z</dcterms:modified>
  <cp:revision>9</cp:revision>
  <dc:subject/>
  <dc:title>Slide 1</dc:title>
</cp:coreProperties>
</file>