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or of the Stars of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DITOR ALME SID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arum plainsong, Mode IV, c.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5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reator ** *** ***** 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**'* ***********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**, ******** ** ** a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 *** **** ** **** ** ca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5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en **** *** ***** **** ** ****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****; *** *** ** ******** b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** * *******, *** *** chi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*, ******* ****** mi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5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t **** ***** ****, * *****,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 **** ****, *** ****** **** bow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* ** ***** **** *** acc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***** ** ****'*, ***** **** ***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5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 ** **** **** *****, **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eem ** *** ******* d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end ** ***** ** ***** be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****** ** *** ***** fo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5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o *** *** ******, *** ***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 ******, ***** **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, *****, *****, *** *****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 ***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40 Church Pension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2:53Z</dcterms:modified>
  <cp:revision>10</cp:revision>
  <dc:subject/>
  <dc:title>Slide 1</dc:title>
</cp:coreProperties>
</file>