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 Now, O Prince of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S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Goenyong Lee, b. 19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Geonyong Lee, b. 19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7 - Come Now, O Prince of Pea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 ***, * ****** ** pe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** *** bod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* **** Jes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ncile **** peopl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7 - Come Now, O Prince of Pea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Come ***, * *** ** lo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** *** bod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* **** Jes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ncile **** peopl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7 - Come Now, O Prince of Pea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Come *** *** *** ** f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, *** Savio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* **** Jes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ncile *** na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7 - Come Now, O Prince of Pea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Come, **** ** unit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** *** bod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* **** Jes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ncile *** na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Geonyong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© Geonyong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24:48Z</dcterms:modified>
  <cp:revision>10</cp:revision>
  <dc:subject/>
  <dc:title>Slide 1</dc:title>
</cp:coreProperties>
</file>