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y Soul Proclaims Your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INGS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th One Voice, 1995 (Based on the Magnific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English folk tune, 19th cent., ada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1 - My Soul Proclaims Your Great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My **** ********* **** *********, L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**** ** ******'* prais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****** **** ** lowli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 ** **** **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**'** **** *** **'** 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******** ***** proclaim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 ******* *** **** **** ***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 ****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1 - My Soul Proclaims Your Great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o *** *** **** ** **** f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* **** flow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* *** *** **** *** prou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******** ****** expo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* *** **** **** as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***** instea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**** **** *** **** thing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* *** unf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1 - My Soul Proclaims Your Great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o ******, **** ******* bl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 ** **** sur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 ** *** ******* m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******** **** secu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 ***** ** *** ****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***** ** *** W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 *** ***'* ** *** ****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***, ** *** ador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5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5 Augsburg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8:40Z</dcterms:modified>
  <cp:revision>10</cp:revision>
  <dc:subject/>
  <dc:title>Slide 1</dc:title>
</cp:coreProperties>
</file>