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Lord, How Shall I Mee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E SOLL ICH DICH EMP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Crüger, 1598-16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1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Lord, how shall I m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welcome you arigh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eople long to gr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ope, my heart's deligh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kindle, Lord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lamp within my bre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do in spirit low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at may please you b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1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I lay in fetters, groa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me to set m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stood, my shame bemoa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me to honor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glorious crown you give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reasure safe on hi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ill not fail or leave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earthly riches f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1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Love caused your incarn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brought you down to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thirst for my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ured my liber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ove beyond all t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ed you to emb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love, all love exc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st and fallen 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1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Rejoice, then, you sad-hear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sit in deepest gloo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mourn your joys depa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remble at your doo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hail the Lord's appea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glorious Sun, now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 forth your beams so che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uide us safely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19:01Z</dcterms:modified>
  <cp:revision>9</cp:revision>
  <dc:subject/>
  <dc:title>Slide 1</dc:title>
</cp:coreProperties>
</file>