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7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ome, O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,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salteriolum Cantionum Catholicarum, Köln, 1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Branch of J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c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 come, O Branch of Jesse, f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own from Satan's tyrann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depths of hell your people sa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ive them vict'ry o'er the gra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03:27:34Z</dcterms:modified>
  <cp:revision>10</cp:revision>
  <dc:subject/>
  <dc:title>Slide 1</dc:title>
</cp:coreProperties>
</file>