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Evangelical Lutheran Worship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2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re's a Voice in the Wild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ASC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James Lewis Milligan, 1876-19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Henry H. Bancroft, 1904-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55 - There's a Voice in the Wilderness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There's a voice in the wilderness crying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call from the ways untrod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pare in the desert a highway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highway for our God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valleys shall be exalte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lofty hills brought low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ke straight all the crooked pla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re God, our God, may go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55 - There's a Voice in the Wilderness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O Jerusalem, herald good tiding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cend to the heights and sing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claim to a desolate peop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coming of their kin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ke flow'rs of the field we perish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ke grass our works decay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pow'r and the pomp of n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all pass like a dream awa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55 - There's a Voice in the Wilderness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But the word of our Savior is faithful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arm of our God is strong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 stands in the midst of the n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soon will right the wron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rd, feed your flock like a shepher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lambs so gently hold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pastures of peace now lead them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bring them to your fol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4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© Estate of Eldred Bancro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8T01:32:31Z</dcterms:modified>
  <cp:revision>9</cp:revision>
  <dc:subject/>
  <dc:title>Slide 1</dc:title>
</cp:coreProperties>
</file>