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7 Augsburg Fortress (st. 2,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come, O come, Emmanu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ansom captive Isra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ourns in lonely exi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the Son of God app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, * ****** **** **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bracing *** ****** *** *** nig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*** *** ****** **** *** st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** **** **** *** ***** ***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come, O come, O Lord of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o your tribes on Sinai's h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ncient times you gave the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loud, and majesty, and aw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come, O Branch of Jesse,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own from Satan's tyrann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depths of hell your people sa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ive them vict'ry o'er the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 come, O Key of David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pen wide our heav'nly ho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afe the way that leads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lose the path to mise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O ****, * *********, **** *** che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 ** *******, *** **** n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erse *** ****** ****** 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'* **** ******* *** ** f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O ****, * **** ** *******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***** **** ***** ** on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esh *** ****** **** **** *** you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e *** ******, **** ** ne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8] O come, O come, Emmanu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ansom captive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ourns in lonely exi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the Son of God app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12Z</dcterms:modified>
  <cp:revision>11</cp:revision>
  <dc:subject/>
  <dc:title>Slide 1</dc:title>
</cp:coreProperties>
</file>