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vangelical Lutheran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wake! Awake, and Greet the New M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EJOICE, REJ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Marty Haugen, b.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arty Haugen, b. 1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2 - Awake! Awake, and Greet the New Mor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Awake! *****, *** ***** *** *** mo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**** ****** *** dawn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 *** **** ***, *** **** ** ** bo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old! *** ***** ** **** long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** * **** **** *** po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 *** ****** togeth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 **** *** ****'*** do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 *** ****** ** fore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2 - Awake! Awake, and Greet the New Mor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o **, ** *** ** ****** *** f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manuel ***** * sing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* **** ** ***** *** n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***** *** ***** **** *** ring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** **** *** ****** so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 ** loving-kind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* ** *** ******* ro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** *** ****** *** blind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2 - Awake! Awake, and Greet the New Mor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In ******* ***** *** ****** *****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*** *** ***** ** despair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******* ***** ** ***** ***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**** *** ****** *** ca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***** *** **** ***** ***** ** so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*** **** ** wond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 ****** ***** *** stro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* ** ****** asund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2 - Awake! Awake, and Greet the New Mor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Rejoice, *******, **** ***** ** ***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**** *** ****** *** cheerl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* ***** ***** *** **** l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****** *** ****** *** fearl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** *** **** *** **** *** pray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 *** ******* stor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*** **** **'** *** ** sh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 ** ** **** **** glo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83 GIA Publication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© 1983 GIA Publication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8T01:19:59Z</dcterms:modified>
  <cp:revision>10</cp:revision>
  <dc:subject/>
  <dc:title>Slide 1</dc:title>
</cp:coreProperties>
</file>