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joice, Rejoice,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AF TRONES LAMPA FÄR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urentius Laurenti, 1660-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ymnal and Order of Service, Rock Island, 1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4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Rejoice, rejoice, believe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your lights app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ening is advan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arker night is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r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on is drawing nig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pray and watch and wrest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midnight comes the c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4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watchers on the mount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the bridegroom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 forth, as he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eluias cl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rriage feast is wait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wide open st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e, O heirs of glor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t h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4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saints, who here in pat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cross and suff'rings b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live and reign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sorrow is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nd the throne of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b they shall beho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riumph cast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diadems of g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4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hope and expect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now app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e, O Sun so longed f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'er this benighted sp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earts and hands uplif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plead, O Lord, to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of earth's redem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ets your people fre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21:55Z</dcterms:modified>
  <cp:revision>9</cp:revision>
  <dc:subject/>
  <dc:title>Slide 1</dc:title>
</cp:coreProperties>
</file>