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! A Thrilling Voice Is Sound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 hymn, 16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William H. Monk, 1823-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6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! a thrilling voice is sound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hrist is near," we hear it s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ast away the works of dark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you children of the day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6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Wakened by the solemn war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earth's bondage let us ris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, its sun, all sloth disp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s upon the morning sk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6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ee, the Lamb, so long expec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with pardon down from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haste, with tears of sorr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and all, to be forgiv'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6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o, when next he comes in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world is wrapped in f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ill shield us with his mer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words of love draw n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6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Honor, glory, might, and bl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Father and the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everlasting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unending ages ru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3:51Z</dcterms:modified>
  <cp:revision>9</cp:revision>
  <dc:subject/>
  <dc:title>Slide 1</dc:title>
</cp:coreProperties>
</file>