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ople, Look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SANÇ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Eleanor Farjeon, 1881-19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Fr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8 - People, Look Eas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People, **** ****. *** **** ** ne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*** ******** ** *** y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**** ***** **** ** **** *** abl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im *** ****** *** *** *** tabl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, **** ****, *** **** today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, *** *****, ** ** *** w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8 - People, Look Eas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Furrows, ** ****. ****** ***** ** ba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**** **** ** ******* t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 ** **** ******** *** **** ** nouris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* ****** *** ****'* *** flouris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, **** ****, *** **** today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, *** ****, ** ** *** w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8 - People, Look Eas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Stars, **** *** *****. **** ***** ** d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**** ***** *** **** ***** br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ining ****** *** ****** weath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ght ** *** *** **** togeth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, **** ****, *** **** today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, *** ****, ** ** *** w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8 - People, Look Eas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Angels ******** **** ****** ** mir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m *** ****** *** **** ** eart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 **'** **** *** ****** humm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*** ****, *** **** ** com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, **** ****, *** **** today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, *** ****, ** ** *** w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Miss E. Farjeon Will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01:25:46Z</dcterms:modified>
  <cp:revision>10</cp:revision>
  <dc:subject/>
  <dc:title>Slide 1</dc:title>
</cp:coreProperties>
</file>