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Jordan's Bank the Baptist's C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UER NO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Coffin, 1676-17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ichael Prätorius, 1571-16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9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n Jordan's bank the Baptist's c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nounces that the Lord is nig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wake and hearken, for he br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ad tidings of the King of king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9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n cleansed be ev'ry life from si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traight the way for God with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t us all our hearts prep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Christ to come and enter t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9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We hail you as our Savior,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refuge and our great rewar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out your grace we waste a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flow'rs that wither and dec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9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tretch forth y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, our health rest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make us rise to fall no mor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let your face upon us sh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ill the world with love divi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9 - On Jordan's Bank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All praise to you, eternal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advent has our freedom w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 with the Father we ad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oly Spirit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26:44Z</dcterms:modified>
  <cp:revision>9</cp:revision>
  <dc:subject/>
  <dc:title>Slide 1</dc:title>
</cp:coreProperties>
</file>