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712960" y="6400800"/>
            <a:ext cx="37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ymn words omitted due to copyright re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see ending credits for acknowledg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essed Be the God of Isra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FOREST G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Carl P. Daw Jr., b. 19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English melody, ada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0 - Blessed Be the God of Israe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Blessed ** *** *** ** Isra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***** ** *** ** fre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*** ** *** **** *** u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****** **** *****'* tre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**** *** ******** **** decla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**** * ****** ar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***** **** **** *** enem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 *** **** ** harm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0 - Blessed Be the God of Israe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With ******** ***** **** *** stil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**** recall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 **** ***** ** Abraha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**** ** **** ** all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** ***** ******* ******* fe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** ***** ** prais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******** *** righteousn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***** *** *** *** day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0 - Blessed Be the God of Israe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My *****, ** ******* ** *** L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**** ******* *** wa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**** ***'* ****** **** *** sav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***'* ******* swa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n ***** ***'* ***** **** ** hig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ine ***** *** ***** cea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***** **** *** ***** ** dea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* ** **** pea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5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© 1989 Hope Publishing 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8T01:27:42Z</dcterms:modified>
  <cp:revision>10</cp:revision>
  <dc:subject/>
  <dc:title>Slide 1</dc:title>
</cp:coreProperties>
</file>