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Cam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 CAM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ameroon tradi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Cameroon tradi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3 - He Came Dow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e came down that we may have lo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lo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lo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elujah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3 - He Came Dow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came down that we may have l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l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l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elujah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3 - He Came Dow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 came down that we may have pe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pe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pe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elujah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3 - He Came Dow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e came down that we may have jo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jo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me down that we may have jo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lelujah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30:35Z</dcterms:modified>
  <cp:revision>9</cp:revision>
  <dc:subject/>
  <dc:title>Slide 1</dc:title>
</cp:coreProperties>
</file>