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fort, Comfort Now M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EU DICH SE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G. Olearius, 1635-17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Trente quatre Pseaumes de David, Geneva, 15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6 - Comfort, Comfort Now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"Comfort, comfort now my peopl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l of peace!" So says our Go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fort those who sit in dark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urning under sorrow's loa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's people now procla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God's pardon waits for them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l them that their war is ove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will reign in peace forev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6 - Comfort, Comfort Now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For the herald's voice is cry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desert far and n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ling us to true repentan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ce the reign of God is 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that warning cry obe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prepare for God a w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leys, rise to greet the Savio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lls, bow down in humble favo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6 - Comfort, Comfort Now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Straight shall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long was crook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rougher places pla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your hearts be true and humbl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befits God's holy re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e glory of the L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on earth is shed abroa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ll flesh shall see the tok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God's word is never brok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33:29Z</dcterms:modified>
  <cp:revision>9</cp:revision>
  <dc:subject/>
  <dc:title>Slide 1</dc:title>
</cp:coreProperties>
</file>