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Come, O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Wis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7a - O Come, O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****, * ****** **** **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bracing *** ****** *** *** nig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**** *** ****** **** *** st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 ** **** **** *** ***** ***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1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97 Augsburg Fortress (st. 2, 6,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03:27:19Z</dcterms:modified>
  <cp:revision>11</cp:revision>
  <dc:subject/>
  <dc:title>Slide 1</dc:title>
</cp:coreProperties>
</file>