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7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Come, O Come, Em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NI, EM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salteriolum Cantionum Catholicarum, Köln, 1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15th cent.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Key of 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d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O come, O Key of David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open wide our heav'nly hom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afe the way that leads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lose the path to mise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3-27T03:27:41Z</dcterms:modified>
  <cp:revision>10</cp:revision>
  <dc:subject/>
  <dc:title>Slide 1</dc:title>
</cp:coreProperties>
</file>