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8"/>
          <p:cNvSpPr/>
          <p:nvPr/>
        </p:nvSpPr>
        <p:spPr>
          <a:xfrm>
            <a:off x="2712960" y="6400800"/>
            <a:ext cx="371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Hymn words omitted due to copyright re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(see ending credits for acknowledg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vangelical Luther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57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 Come, O Come, Emman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VENI, EMMANU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Psalteriolum Cantionum Catholicarum, Köln, 17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Plainsong melody, 15th cent., a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Day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7e - O Come, O Come, Emmanuel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6] O ****, * *********, **** *** cheer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*** ** *******, *** **** ne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perse *** ****** ****** ** nigh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*****'* **** ******* *** ** fligh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Rejoice! Rejoice! Emmanu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come to you, O Israe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1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© 1997 Augsburg Fortress (st. 2, 6, 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Don Vossler</cp:lastModifiedBy>
  <dcterms:modified xsi:type="dcterms:W3CDTF">2010-03-27T03:27:49Z</dcterms:modified>
  <cp:revision>11</cp:revision>
  <dc:subject/>
  <dc:title>Slide 1</dc:title>
</cp:coreProperties>
</file>