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Lutheran Book of Worship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e, Thou Long-Expected Je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JEFF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Charles Wesley, 1707-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William Walker, Southern Harmony, 18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0 - Come, Thou Long-Expected Jesu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Come, thou long-expected Jesu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orn to set thy people fre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om our fears and sins release us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us find our rest in the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rael's strength and consolatio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pe of all the earth thou art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ar desire of ev'ry natio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oy of ev'ry longing hear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30 - Come, Thou Long-Expected Jesu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Born thy people to deliver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orn a child, and yet a king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orn to reign in us forever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w thy gracious kingdom brin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y thine own eternal Spir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le in all our hearts alon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y thine all-sufficient mer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ise us to thy glorious thron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2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7T04:26:09Z</dcterms:modified>
  <cp:revision>8</cp:revision>
  <dc:subject/>
  <dc:title>Slide 1</dc:title>
</cp:coreProperties>
</file>