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! A Thrilling Voice Is Sound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EN WIR UNS ALL IN 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Latin hymn, 15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Weisse, c. 1480-15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7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! A thrilling voice is sound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hrist is near," we hear the c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ast away the works of darknes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you children of the day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7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Startled at the solemn warn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earthbound soul ari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, its sun, all sloth disp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es upon the morning sk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7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ee the Lamb, so long expec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s with pardon down from heav'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haste, with tears of sorrow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and all to be forgiv'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7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o, when next he comes in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world is wrapped in f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will shield us with his mer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words of love draw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7 - Hark! A Thrilling Voice Is Sounding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onor, glory, might, domin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the Father and the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the everliving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le eternal ages ru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2:54Z</dcterms:modified>
  <cp:revision>8</cp:revision>
  <dc:subject/>
  <dc:title>Slide 1</dc:title>
</cp:coreProperties>
</file>