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Child Is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GREENSLEE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William C. Dix, 1837-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English ballad, 16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0 - What Child Is Thi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What child is this, who, laid to re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Mary's lap is sleeping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m angels greet with anthems swe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shepherds watch are keeping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, this is Christ the k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m shepherds guard and angels s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te, haste to bring him lau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abe, the son of Ma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0 - What Child Is Thi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Why lies he in such mean est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ox and ass are feeding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od Christian, fear; for sinners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ilent Word is plead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ils, spear shall pierce him throu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ross be borne for me, for you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il, hail the Word made fles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abe, the son of Ma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40 - What Child Is Thi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So bring him incense, gold, and myrr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peasant, king, to own hi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King of kings salvation bring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loving hearts enthrone hi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ise, raise the song on hi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virgin sing her lullab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y, joy, for Christ is bor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abe, the son of Mar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35:47Z</dcterms:modified>
  <cp:revision>8</cp:revision>
  <dc:subject/>
  <dc:title>Slide 1</dc:title>
</cp:coreProperties>
</file>