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ant Holy, Infant 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 ZLOBIE LE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olish ca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olish ca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4 - Infant Holy, Infant Lowl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Infant ****, ****** low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* *** * ****** stall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xen ******, ****** know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*** ***** ** **** ** al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iftly *******, ****** sing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lls *** *******, ******* bring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*** ***** ** **** ** al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*** ***** ** **** ** al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4 - Infant Holy, Infant Lowl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Flocks **** ********, ********* keep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gil **** *** ******* n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w *** *****, ***** *** sto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dings ** * ****** tru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us *********, **** **** sorr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s *******, ***** *** morrow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*** ***** *** **** *** you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*** ***** *** **** *** you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3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60 Evans Brothers, L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39:37Z</dcterms:modified>
  <cp:revision>9</cp:revision>
  <dc:subject/>
  <dc:title>Slide 1</dc:title>
</cp:coreProperties>
</file>