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712960" y="6400800"/>
            <a:ext cx="371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Hymn words omitted due to copyright re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(see ending credits for acknowledg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Book of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vior of the Nations, 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NUN KOMM, DER HEIDEN HEI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attr. St. Ambrose, 340-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Johann Walther, 1496-15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8 - Savior of the Nations, Co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Savior ** *** *******, com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ow *** ***** ** *** Son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'ry ******, ***** ** aw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aise *** ******* *** ** Go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8 - Savior of the Nations, Co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Not ** ***** **** ** worth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**** ***'* *** ****** breath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uit ** ****'* **** begu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*** ******** *** ****, *** So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8 - Savior of the Nations, Co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Wondrous *****! **, ******** chil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*** ****** undefiled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ghty *** *** *** ** on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ger *** *** **** ** run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8 - Savior of the Nations, Co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God *** ****** ** *** sourc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ck ** *** ** **** *** cours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wn ** ***** *** **** descend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's **** ****** ** reascend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8 - Savior of the Nations, Co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He ****** ****** ** return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v'ling ***** **** ********* burn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iding ***, ********* ho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*** ****** *** *** com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8 - Savior of the Nations, Co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6] God *** ******'* ******** S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irds ******* ** ***** ** ru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*** ******** ** *** soul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nger **** **** ***** ***** roll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8 - Savior of the Nations, Com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7] Shining ****** ** *** nigh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eathing ****'** **** **** light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rkness ****** **** **** flam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ining ****** ** *****' nam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3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© Concordia Publishing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7T04:24:14Z</dcterms:modified>
  <cp:revision>9</cp:revision>
  <dc:subject/>
  <dc:title>Slide 1</dc:title>
</cp:coreProperties>
</file>