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, Come, Oh, Come, Emman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VENI, EM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salteriolum Cantionum Catholicarum, Köln, 17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lainsong melody, 15th cent.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h, come, oh, come, Emmanu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ransom captive Israe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mourns in lonely exile he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il the Son of God app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Oh, come, oh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at Lord of m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to your tribes on Sinai's h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ncient times once gave the la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cloud, and majesty, and aw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come, strong Branch of Jesse,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own from Satan's tyrann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depths of hell your people sa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ive them vict'ry o'er the gra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come, bl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yspring, come and che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spirits by your advent her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perse the gloomy clouds of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eath's dark shadows put to f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4 - Oh, Come, Oh, Come, Emmanue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Oh, come, O Key of David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open wide our heav'nly h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safe the way that leads on hig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close the path to mise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Rejoice! Rejoice! Emmanu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come to you, O Israe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30:01Z</dcterms:modified>
  <cp:revision>8</cp:revision>
  <dc:subject/>
  <dc:title>Slide 1</dc:title>
</cp:coreProperties>
</file>