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! He Comes with Clouds Desc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ELMS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Wesley, 1707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Thomas Olivers, 1725-99, ada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Lo! He comes with clouds descend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for favored sinners slai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sand thousand saints atte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well the triumph of his trai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, alleluia,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ist the Lord returns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v'ry eye shall now behold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bed in glorious majest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se who set at nought and sold hi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erced and nailed him to the t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eply wailing, deep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iling, deeply wai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their true Messiah s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ose dear tokens of his Pas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ill his dazzling body bea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use of endless exul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his ransomed worshiper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what rapture, with wh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pture, with what rap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ze we on those glorious scar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7 - Lo! He Comes with Clouds Descending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Yea, amen, let all adore th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on thine eternal thron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ior, take the pow'r and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im the kingdom as thine ow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eluia, alleluia, alleluia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 shalt reign, and thou alo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3:16Z</dcterms:modified>
  <cp:revision>8</cp:revision>
  <dc:subject/>
  <dc:title>Slide 1</dc:title>
</cp:coreProperties>
</file>