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Lutheran Book of Worship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joice, Rejoice This Happy M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WIE SCHÖN LEUCHT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Birgitte K. Boye, 1742-18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Philipp Nicolai, 1556-1608, a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43 - Rejoice, Rejoice This Happy Morn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Rejoice, rejoice this happy morn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Savior unto us is born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Christ, the Lord of glory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is lowly birth at Bethlehe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angels from on high proclai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sing redemption's story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y soul, exto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d's great favor; bless him ev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salvation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ive him praise and adoration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0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7T04:38:40Z</dcterms:modified>
  <cp:revision>8</cp:revision>
  <dc:subject/>
  <dc:title>Slide 1</dc:title>
</cp:coreProperties>
</file>