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King Shall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n Brownlie, 1859-19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n Wyeth, Repository of Sacred Music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 II, Harrisburg, 18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triumphant break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beauty gilds the eastern hi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fe to joy awak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as of old a little chi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bear and fight and di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rowned with glory like the s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ights the morning sk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brighter than the rising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Christ, victorious, r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ft the lonesome place of dea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ite the rage of fo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h, brighter than that glorious mor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dawn upon our 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when Christ in splendor com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we shall see his 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3 - The King Shall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The King shall c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morning daw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ight and beauty br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, Christ the Lord! Your people pr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 quickly, King of k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8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9:03Z</dcterms:modified>
  <cp:revision>8</cp:revision>
  <dc:subject/>
  <dc:title>Slide 1</dc:title>
</cp:coreProperties>
</file>