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fort, Comfort Now M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EU DICH SE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Olearius, 1611-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rente quatre Pseaumes de David, Geneva, 15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9 - Comfort, Comfort Now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"Comfort, comfort now my peopl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of peace!" So says our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fort those who sit in darkn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urning under sorrow's loa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God's people now procla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God's pardon waits for the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ll them that their war is ov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 will reign in peace foreve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9 - Comfort, Comfort Now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For the herald's voice is cry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desert far and nea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ing us to true repentan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ce the Kingdom now is 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that warning cry obe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prepare for God a way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valleys rise to meet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hills bow down to greet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9 - Comfort, Comfort Now My Peop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Straight shall b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long was crook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 rougher places plai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your hearts be true and humbl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befits his holy reig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e glory of the L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w on earth is shed abroa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ll flesh shall see the tok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God's word is never broke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4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5:12Z</dcterms:modified>
  <cp:revision>8</cp:revision>
  <dc:subject/>
  <dc:title>Slide 1</dc:title>
</cp:coreProperties>
</file>