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Green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Jordan's Banks the Baptist's 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UER NO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Coffin, 1676-17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Michael Prätorius, 1571-16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6 - On Jordan's Banks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n Jordan's banks the Baptist's c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nounces that the Lord is nigh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wake and hearken for he br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ad tidings of the King of king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6 - On Jordan's Banks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n cleansed be ev'ry life from si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traight the way for God with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us all our hearts prep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Christ to come and enter t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6 - On Jordan's Banks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e hail you as our Savior,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refuge and our great rewar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out your grace we waste a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 flow'rs that wither and deca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6 - On Jordan's Banks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Stretch forth you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, our health rest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make us rise to fall no 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let your face upon us sh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ill the world with love divi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6 - On Jordan's Banks the Baptist's Cr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All praise to you, eternal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advent has our freedom w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m with the Father we ad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oly Spirit ever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Don Vossler</cp:lastModifiedBy>
  <dcterms:modified xsi:type="dcterms:W3CDTF">2010-04-29T16:03:58Z</dcterms:modified>
  <cp:revision>9</cp:revision>
  <dc:subject/>
  <dc:title>Slide 1</dc:title>
</cp:coreProperties>
</file>