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Savior, Rend the Heavens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O HEILAND, REISS DIE HIMMEL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rman spiritual song, Köln, 16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Rheinfelssisch Deutsches Catholisches Gesangbuch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sburg, 16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8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******, **** *** ******* w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****, **** **** **** ****** strid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ock *** *****, *** ***** ***** dow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bar *** *** ** ******'* cr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8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 ******* ****, * ******* Su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* *** ****** ****** **** dawn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***, *****; ******* **** l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 ** ***** *** ***** ** n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8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in's ******** **** **** ** lie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im ***** ***** ****** ****** *** ey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, **** ** **** ****** han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** ** *** ******** l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8 - O Savior, Rend the Heavens Wid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There ***** ** *** *** ******* b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 ** ***, *** ******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***** ** **** *** *** ado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ver *** for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69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3:51Z</dcterms:modified>
  <cp:revision>9</cp:revision>
  <dc:subject/>
  <dc:title>Slide 1</dc:title>
</cp:coreProperties>
</file>