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e, O Precious Ran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EINEN JESUM LASS ICH N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Johann G. Olearius, 1635-17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Neu-verfertigtes Darmstädt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sang-Buch, 1699, a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Come, O precious Ransom,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hope for sinful mortal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O Savior of the world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are to you all porta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your beauty let us view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xiously we wait for you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Enter now my waiting hear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rious King and Lord most ho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well in me and never leav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ough I am but poor and low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vast riches will be m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you are my guest divin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My hosannas and my pal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ciously receive, I pray you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more, as best I ca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mage I will gladly pay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n faith I will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fe eternal by your g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4 - Come, O Precious Ranso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Hail! Hosanna! David's S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esus, hear our supplication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your kingdom, scepter, cr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ing us blessing and salv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forever we may sing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il! Hosanna to our king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6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20:23Z</dcterms:modified>
  <cp:revision>8</cp:revision>
  <dc:subject/>
  <dc:title>Slide 1</dc:title>
</cp:coreProperties>
</file>