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ing Wide the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ACHT HOCH DIE TÜ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Georg Weissel, 1590-16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A. Freylinghausen, 1670-17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Fling Wide the Doo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Fling **** *** ****, ***** *** gat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 ***** ***** ** stat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 ***** *** **** ** king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 *** ***** *** brin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 ********* ** *** eart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***** * ***** ** **** mir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 *** *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or, ******, Wo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Fling Wide the Doo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He ** *** **** ** *** belief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 ** *****'* ****** self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* ***** ** holin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*** ** *** lovelines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**** *** ******* ** ** e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****** ****** *** **** *** frien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* *** **** so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**** ** **** wro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Fling Wide the Doo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Oh, ***** ***** *** ******* la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**** ** ***** **** ****'* command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* ** *** ****** ** rul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** ****** ***** ** dwell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** *** ******** *** ** bli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***** *** ***** *** ***** ** hi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or ** *** worl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 ******** *** go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2 - Fling Wide the Doo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Come, ****, *** ******, ***** Chris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 *** **** **** ** tru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**** ** *** **** ****** gr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on *** ******* ***** **** fa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 *** **** ******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******* ** **** ***** ** wi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****** **** **** n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*** ** *** *** sam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78 Lutheran Book of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8:05Z</dcterms:modified>
  <cp:revision>9</cp:revision>
  <dc:subject/>
  <dc:title>Slide 1</dc:title>
</cp:coreProperties>
</file>