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oy to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NTIO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Isaac Watts, 1674-17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George F. Handel, 1685-1759, ada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9 - Joy to the Worl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Joy to the world, the Lord is co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arth receive its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v'ry heart prepare him ro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 and nature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 and nature s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, and heav'n and nature s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9 - Joy to the Worl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Joy to the earth, the Savior reign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all their songs empl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fields and flood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cks, hills, and pla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 the sounding j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 the sounding jo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 repeat the sounding jo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9 - Joy to the Worl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No more let sins and sorrow gr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thorns infest the grou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comes to make his blessings 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 as the curse is fou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 as the curse is fou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r as, far as the curse is fou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9 - Joy to the Worl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e rules the world with truth and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s the nations pr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lories of his righteous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onders of his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onders of his lo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onders, wonders of his l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4:49Z</dcterms:modified>
  <cp:revision>8</cp:revision>
  <dc:subject/>
  <dc:title>Slide 1</dc:title>
</cp:coreProperties>
</file>