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joice, Rejoice, Belie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AF TRONES LAMPA FÄR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Bohemian carol, 15th c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Hymnal and Order of Service, Rock Island, 19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 - Rejoice, Rejoice, Believe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Rejoice, rejoice, believer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let your light appea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vening is advanc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darker night is nea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ridegroom is ari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soon is drawing nig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, pray and watch and wrestle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 midnight comes the cr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 - Rejoice, Rejoice, Believe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e watchers on the mounta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laim the bridegroom nea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 forth, as he approach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alleluias clea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arriage feast is wait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gates wide open sta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ise, O heirs of glory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ridegroom is at ha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 - Rejoice, Rejoice, Believe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The saints, who here in patie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ir cross and suff'rings bor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live and reign fore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sorrow is no 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ound the throne of glo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amb you shall behol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riumph cast before hi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ir diadems of go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5 - Rejoice, Rejoice, Believer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Our hope and expectati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Jesus, now appea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ise, O Sun so longed fo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'er this benighted sphe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hearts and hands uplift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plead, O Lord, to s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ay of earth's redem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sets your people fre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21:21Z</dcterms:modified>
  <cp:revision>8</cp:revision>
  <dc:subject/>
  <dc:title>Slide 1</dc:title>
</cp:coreProperties>
</file>