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712960" y="6400800"/>
            <a:ext cx="371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Hymn words omitted due to copyright re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(see ending credits for acknowledg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pare the Royal Hig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EREDEN VÄG FÖR HER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Frans Mikael Franzén, 1722-18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Swedish folk tune, 17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6 - Prepare the Royal Highw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Prepare *** ***** highwa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**** ** ***** ** nea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**'** **** *** vall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***** **** appear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***** *** **** ** glor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etold ** ****** stor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Hosanna ** ***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 ******** ***'* Wor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6 - Prepare the Royal Highw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God's ******, *** *** com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 ******* k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lm ******** ***** ****** him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read ********! ***** *** s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d's ******* **** *** **** you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**** ***** ***** ****** you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Hosanna ** ***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 ******** ***'* Wor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6 - Prepare the Royal Highw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en ***** *** ***** **** op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***** **** ******** k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****, *** **'** n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s ******* *** *** b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***** **** *** ****** him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****** **** **** sing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Hosanna ** ***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 ******** ***'* Wor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6 - Prepare the Royal Highwa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His ** ** ******* kingdom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***** **** ****'* abo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s **** ** ***** *** freed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*******, *****, *** lov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*** **** ****** ** sound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****** ** abound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Refrain] Hosanna ** *** Lor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** ******** ***'* Word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© 1978 Lutheran Book of W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22:18Z</dcterms:modified>
  <cp:revision>9</cp:revision>
  <dc:subject/>
  <dc:title>Slide 1</dc:title>
</cp:coreProperties>
</file>