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, Come, All Ye Faith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DESTE FID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ttr. John F. Wade, c. 1711-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F. Wade, c. 1711-86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5 - Oh, Come, All Ye Faithfu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h, come all ye faithfu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ful and triumphan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 ye, oh, come ye to Bethlehe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and behol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he king of angel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5 - Oh, Come, All Ye Faithfu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highest,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ght of light eterna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of a virgin, a mortal he com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of the Fa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in flesh appear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5 - Oh, Come, All Ye Faithfu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ing, choirs of angel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in exult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, all ye citizens of heav'n abov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y to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highes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5 - Oh, Come, All Ye Faithfu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Yea, Lord, we greet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his happy mor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, to thee be glory giv'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d of the Fath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in flesh appear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let us adore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40:35Z</dcterms:modified>
  <cp:revision>8</cp:revision>
  <dc:subject/>
  <dc:title>Slide 1</dc:title>
</cp:coreProperties>
</file>