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rk, the Glad Sou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HESTER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hilip Doddridge, 1702-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Thomas Haweis, 1734-1820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 - Hark, the Glad Sound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Hark the glad sound! The Savior com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avior promised lo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ev'ry heart prepare a thr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ev'ry voice a so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 - Hark, the Glad Sound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He comes the pris'ners to releas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Satan's bondage h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ates of brass before him burs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ron fetters yi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 - Hark, the Glad Sound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He comes the broken heart to bi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leeding soul to cu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ith the treasures of his g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enrich the humble poo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5 - Hark, the Glad Sound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ur glad hosannas, Prince of Pe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welcome shall procla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heav'n's eternal arches 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your beloved n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30:58Z</dcterms:modified>
  <cp:revision>8</cp:revision>
  <dc:subject/>
  <dc:title>Slide 1</dc:title>
</cp:coreProperties>
</file>