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584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02720" y="11430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584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02720" y="40485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28600" y="2743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0000" y="40485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1430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485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4"/>
          <p:cNvSpPr/>
          <p:nvPr/>
        </p:nvSpPr>
        <p:spPr>
          <a:xfrm>
            <a:off x="344520" y="638280"/>
            <a:ext cx="845496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utheran Book of Worship’ E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344520" y="177804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ymn #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344520" y="2344680"/>
            <a:ext cx="8454960" cy="5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Advent of Our G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2680" y="426240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FRANC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44520" y="33544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: Charles Coffin, 1676-17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44520" y="5654520"/>
            <a:ext cx="8454960" cy="581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344520" y="4724280"/>
            <a:ext cx="84549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e: Johann B. König, 1691-1758, ada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344520" y="2835360"/>
            <a:ext cx="8454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1] The advent of our G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ll be our theme for praye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e, let us meet him on the ro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place for him prepa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2] The everlasting 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arnate stoops to b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mself the servant's form puts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set his people fre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3] Come, Zion's daughter, 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eet your lowly king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 let your faithless heart desp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ace he comes to b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4] As judge, on clouds of light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 soon will come agai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all his scattered saints uni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him on high to reig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5] Before the dawning 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sin be put to flight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longer let the law hold sway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walk in freedom's ligh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716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#22 - The Advent of Our God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562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[6] All glory to the Son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 comes to set us free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Father, Spirit, ever 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all etern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4" descr="cross-o"/>
          <p:cNvPicPr/>
          <p:nvPr/>
        </p:nvPicPr>
        <p:blipFill>
          <a:blip r:embed="rId1"/>
          <a:stretch/>
        </p:blipFill>
        <p:spPr>
          <a:xfrm>
            <a:off x="4062240" y="1844640"/>
            <a:ext cx="1020960" cy="1495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0" name="Text Box 17"/>
          <p:cNvSpPr/>
          <p:nvPr/>
        </p:nvSpPr>
        <p:spPr>
          <a:xfrm>
            <a:off x="2425680" y="676440"/>
            <a:ext cx="429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A Collection of Lutheran Mus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2123280" y="5654520"/>
            <a:ext cx="49006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werPoint Production © 2009 Donald L. Voss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LutheranMusic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44520" y="3887640"/>
            <a:ext cx="8454960" cy="6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: 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344520" y="4573440"/>
            <a:ext cx="845496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blic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23:09:45Z</dcterms:created>
  <dc:creator>Kitty</dc:creator>
  <dc:description/>
  <dc:language>en-US</dc:language>
  <cp:lastModifiedBy>Kitty</cp:lastModifiedBy>
  <dcterms:modified xsi:type="dcterms:W3CDTF">2009-02-17T04:16:40Z</dcterms:modified>
  <cp:revision>8</cp:revision>
  <dc:subject/>
  <dc:title>Slide 1</dc:title>
</cp:coreProperties>
</file>