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ke, Awake, for Night Is F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ACHET A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hilipp Nicolai, 1556-16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Philipp Nicolai, 1556-16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1 - Wake, Awake, for Night Is Fly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Wake, awake, for night is fly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watchmen on the heights are cry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wake, Jerusalem, at la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dnight hears the welcome voic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at the thrilling cry rejoic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"Come, forth, you maidens! Night is pa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1 - Wake, Awake, for Night Is Fly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ridegroom comes! Awak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lamps with gladness take!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e yourselves to meet the L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se light has stirred the waiting guar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1 - Wake, Awake, for Night Is Fly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Zion hears the watchmen sing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in her heart new joy is spring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e wakes, she rises from her gloo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her Lord comes down all-glorio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strong in grace, in truth victoriou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r star is ris'n; her light is co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1 - Wake, Awake, for Night Is Fly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come, you Blessed O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rd Jesus, God's own S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 hosann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go until the halls we 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you have bid us dine with you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1 - Wake, Awake, for Night Is Fly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Now let all the heav'ns adore you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aints and angels sing before you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arps and cymbals all unit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on pearl each shining porta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, dwelling with the choir immortal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gather round your dazzling l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1 - Wake, Awake, for Night Is Fly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eye has seen, no e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s yet been trained to hea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joy is our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scendos rise; your halls resoun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sannas blend in cosmic sou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0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27:07Z</dcterms:modified>
  <cp:revision>8</cp:revision>
  <dc:subject/>
  <dc:title>Slide 1</dc:title>
</cp:coreProperties>
</file>