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ittle Town of Bethle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ST. LO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lips Brooks, 1835-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Lewis H. Redner, 1831-19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1 - O Little Town of Bethlehe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ittle town of Bethleh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still we see thee li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bove thy deep and dreamless sle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lent stars go b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 in thy dark streets shine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erlasting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opes and fears of all the yea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met in thee to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1 - O Little Town of Bethlehe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or Christ is born of Ma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, gathered all ab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mortals sleep, the angels ke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watch of wond'ring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morning stars, 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the holy bi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raises sing To God the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eace to all the earth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1 - O Little Town of Bethlehe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ow silently, how silen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ondrous gift is giv'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God imparts to human hea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ssings of his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ear may hear his com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, in this world of s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meek souls will receive him sti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ear Christ enters i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1 - O Little Town of Bethlehe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 holy Child of Bethlehe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end to us, we pr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st out our sin, and enter 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born in us tod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hear the Christmas ang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reat glad tidings tell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 to us, abide with 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rd Immanuel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6:44Z</dcterms:modified>
  <cp:revision>8</cp:revision>
  <dc:subject/>
  <dc:title>Slide 1</dc:title>
</cp:coreProperties>
</file>