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 the Father's Love Bego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DIVINUM MYSTE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Marcus Aurelius Clemens, Prudentius, 348-4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Plainsong melody, Mode V, 13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2 - Of the Father's Love Begotte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f the Father's love begot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e the worlds began to b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is Alpha and Omega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the source, the ending h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things that are, that have bee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at future years shall s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more and 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2 - Of the Father's Love Begotte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Oh, that birth forever bless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the virgin, full of gr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the Holy Ghost conceiv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e the Savior of our r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e babe, the world's redeem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revealed his sacred f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more and 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2 - Of the Father's Love Begotte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is is he whom seers in old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ted of with one acc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m the voices of the proph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mised in their faithful wor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he shines, the long-expecte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creation praise its L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more and 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2 - Of the Father's Love Begotte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Let the heights of heav'n adore him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gel hosts his praises s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w'rs, dominions, bow before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extol our God and K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no tongue on earth be silen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'ry voice in concert 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more and 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2 - Of the Father's Love Begotten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Christ, to thee, with God the Fath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, O Holy Ghost, to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ymn and chant and high thanksgiv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unwearied praises b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nor, glory, and domin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eternal vict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more and evermor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37:42Z</dcterms:modified>
  <cp:revision>8</cp:revision>
  <dc:subject/>
  <dc:title>Slide 1</dc:title>
</cp:coreProperties>
</file>