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ce Again My Heart Rej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ÖHLICH SOLL MEIN HERZE SP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6 - Once Again My Heart Rejoic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ce again my heart rejo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I hear,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etest angel voic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born," their choirs are sing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ll the air ev'ryw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with joy is ring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6 - Once Again My Heart Rejoic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ar! A voice from yonder mang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 and sweet, does entrea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Flee from woe and dang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and see; from all that grieves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are freed; all you n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will surely give you.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6 - Once Again My Heart Rejoice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then, let us hasten yond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e let all, great and smal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eel in awe and wond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him who with love is year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 the star that from f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ght with hope is burn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41:33Z</dcterms:modified>
  <cp:revision>8</cp:revision>
  <dc:subject/>
  <dc:title>Slide 1</dc:title>
</cp:coreProperties>
</file>