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Lord, How Shall I Mee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WIE SOLL ICH DICH EMPF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Paul Gerhardt, 1607-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Crüger, 1598-16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O Lord, how shall I m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welcome you arigh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people long to greet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ope, my heart's delight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kindle, Lord most hol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lamp within my brea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do in spirit low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hat may please you b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Your Zion strews befor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n boughs and fairest palms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, too, will adore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joyous songs and psalm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y heart shall bloom for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you with praises n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from your name shall nev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hold the honor d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I lay in fetters, groa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me to set m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stood, my shame bemoaning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came to honor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glorious crown you give 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reasure safe on hig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will not fail or leave 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earthly riches f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Love caused your incarnation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ve brought you down to 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thirst for my salv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ured my liber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h, love beyond all t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t led you to embr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love, all love excell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r lost and fallen r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Rejoice, then, you sad-hearted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sit in deepest gloom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mourn your joys depar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remble at your doom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pair not; he is near you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, standing at the door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best can help and cheer yo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ids you weep no mo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3 - O Lord, How Shall I Meet You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He comes to judge the nation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error to his foes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light of consol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blessed hope to tho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love the Lord's appea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glorious Sun, now com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d forth your beams most cheer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guide us safely hom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19:25Z</dcterms:modified>
  <cp:revision>8</cp:revision>
  <dc:subject/>
  <dc:title>Slide 1</dc:title>
</cp:coreProperties>
</file>