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the Earth Now Prais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Heinrich Held, 1620-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et the earth now praise the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has truly kept Hi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t last to us did s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the sinner's help and fri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at the fathers most desir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 prophets' heart inspir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y longed for many a y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s fulfilled in glory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bram's promised great rewa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ion's helper, Jacob's Lor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of twofold race behol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ly came, as long foret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Your coming was in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et, full of gentle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same mind dwell in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is Yours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Bruise for me the serpent's 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, set free from doubt and dre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may cling to You in fai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ly kept through life and dea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2 - Let the Earth Now Praise the L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hen when You will come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glorious king to reig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ith joy will see Your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ly ransomed by You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5:07Z</dcterms:modified>
  <cp:revision>7</cp:revision>
  <dc:subject/>
  <dc:title>Slide 1</dc:title>
</cp:coreProperties>
</file>