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712960" y="6400800"/>
            <a:ext cx="37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Hymn words omitted due to copyright re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see ending credits for acknowledg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Service Book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pare the Royal Hig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EREDEN VÄG FÖR HER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Frans Mikael Franzén, 1722-18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Swedish folk tune, 17th c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3 - Prepare the Royal Highwa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Prepare *** ***** highwa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 ** ***** ** near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**'** **** *** valle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***** **** appear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n ***** *** **** ** glor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etold ** ****** story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Hosanna ** *** Lor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** ******** ***'* Word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3 - Prepare the Royal Highwa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God's ******, *** *** coming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*** ******* king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lm ******** ***** ****** him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read ********! ***** *** sing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's ******* **** *** **** you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**** ***** ***** ****** you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Hosanna ** *** Lor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** ******** ***'* Word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3 - Prepare the Royal Highwa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Then ***** *** ***** **** op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***** **** ******** king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****, *** **'** n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s ******* *** *** br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***** **** *** ****** Him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*******, *** ***** Him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Hosanna ** *** Lor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** ******** ***'* Word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3 - Prepare the Royal Highwa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His ** ** ******* kingdom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***** **** ****'* abov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**** ** ***** *** freed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****, *****, *** lov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*** **** ****** ** sound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******** ** abounding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Hosanna ** *** Lor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** ******** ***'* Word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7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© 1978 Lutheran Book of W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9T01:06:23Z</dcterms:modified>
  <cp:revision>8</cp:revision>
  <dc:subject/>
  <dc:title>Slide 1</dc:title>
</cp:coreProperties>
</file>