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ise, O Christia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 MEINES HERZENS GRU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Valentin Thilo, 1607-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New Catechismus Gesangbüchlein, Hamburg, 1598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4 - Arise, O Christian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Arise, O Christian peopl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 yourselves tod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 to greet the Savio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takes your sins a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us by grace al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th and light were give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mised Lord from heav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ll the world is show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4 - Arise, O Christian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Prepare the way before Hi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 for Him the b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t out what would offend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great, this heav'nly gu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traight, make plain the wa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owly valleys rai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ights of pride aba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path all even l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4 - Arise, O Christian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e humble heart and low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raises up on hig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ath His feet in t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aughty soul shall li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art sincere and r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heeds God's invi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makes true preparation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the Lord's de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4 - Arise, O Christian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Prepare my heart, Lord Jes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urn not from me asid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lp me to receive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blessed Adventti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stall and manger 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now to dwell within m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'll sing Your praises glad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orth Your glory sho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17:03Z</dcterms:modified>
  <cp:revision>7</cp:revision>
  <dc:subject/>
  <dc:title>Slide 1</dc:title>
</cp:coreProperties>
</file>