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Hope! An Eden Prophes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Stephen P. Starke, b. 1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Wyeth, Repository of Sacred Mus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II, Harrisburg, 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2 - What Hope! An Eden Prophesi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What ****! ** **** prophes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**** **** **** *** wi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 **** **** ** sid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d ** * ****** chil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2 - What Hope! An Eden Prophesi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 ***** **** ****** **** *****'* ste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* **** *****'* l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* ** ***** ** Bethlehe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 ***'* des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2 - What Hope! An Eden Prophesi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s ****** ** ***'* **** unfurl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* ** ****** lo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 ***** * *****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uld ***** ** *** cro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2 - What Hope! An Eden Prophesi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Come, *****, ****, ****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t ******** resto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d **** *** *****'* ******* sword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*** ******'* do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8 Stephen P. St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.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5:24Z</dcterms:modified>
  <cp:revision>8</cp:revision>
  <dc:subject/>
  <dc:title>Slide 1</dc:title>
</cp:coreProperties>
</file>