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Service Book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3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sus Came, the Heavens Ad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IEH, HIER BIN 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Godfrey Thring, 1823-19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Geist-reiches Gesang-Buch, Darmstadt, 16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53 - Jesus Came, the Heavens Ador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Jesus came, the heav'ns ador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me with peace from realms on high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came to win redempti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wly came on earth to di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eluia! Alleluia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me in deep humilit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53 - Jesus Came, the Heavens Ador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Jesus comes again in merc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our hearts are worn with car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comes again in answ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an earnest, heartfelt prayer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eluia! Alleluia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s to save us from despai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53 - Jesus Came, the Heavens Ador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Jesus comes to hearts rejoic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inging news of sins forgiv'n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comes with words of gladnes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ading souls redeemed to heav'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eluia! Alleluia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pe to all the world is giv'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53 - Jesus Came, the Heavens Ador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Jesus comes in joy and sorrow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res alike our hopes and fears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comes, whate'er befalls u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eers our hearts and dries our tears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eluia! Alleluia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forts us in failing year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6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9T01:16:05Z</dcterms:modified>
  <cp:revision>7</cp:revision>
  <dc:subject/>
  <dc:title>Slide 1</dc:title>
</cp:coreProperties>
</file>