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ight Will Soon Be 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LLANGLOFF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chen Klepper, 1903-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Welsh hymn tune, 19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7 - The Night Will Soon Be E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The ***** **** **** ** end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 ****** ** f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***** ** ****** ascen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***** *** ******* Star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*** **** ******** frighte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***** ** ***** ** pa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's ******* **** *** brighte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 *** **** aga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7 - The Night Will Soon Be E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 *** **** ****** tend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s ****, * *****, ** serv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us ***, *** ***** offend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ars *** *** **** deser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 **** *** cow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*** *** reconci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ough *** ********** pow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***** *** ***** **** chi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7 - The Night Will Soon Be E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e ***** ** **** ro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**** ***** ******* br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*** ***** ***'* sal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ws ** * ******'* 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*** ** ***'* perver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*****'* **** desig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****** * *** creation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***** *** **** *** s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7 - The Night Will Soon Be E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Yet ****** **** ***** ***** sad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 *** ****** ** pe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 ** *** *** mad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ound ** *** increa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*** *** **** ** beam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**** **** ******* *** nigh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***** *** *** redeem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***'* ********** m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7 - The Night Will Soon Be E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God ****** **** ** ** dark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 *** ***** ** d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t ** ****** *** bright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 **** *** aw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***** **** *** ******* 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ever *** ** ru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****** ** ***** ** childr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ough ****'* ****** S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9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98 GIA Publication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1:00:34Z</dcterms:modified>
  <cp:revision>8</cp:revision>
  <dc:subject/>
  <dc:title>Slide 1</dc:title>
</cp:coreProperties>
</file>