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! He Comes with Clouds Desc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ELMS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Wesley, 1707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Thomas Olivers, 1725-99, ada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6 - Lo! He Comes with Clouds Desc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o! He comes with clouds descend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ce for ev'ry sinner slai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sand thousand saints atte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, alleluia,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the Lord returns to re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6 - Lo! He Comes with Clouds Desc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Ev'ry eye shall now behold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bed in glorious majest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se who set at naught and sold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rced and nailed Him to the t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eply wailing, deep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iling, deeply wai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their true Messiah s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6 - Lo! He Comes with Clouds Desc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ose dear tokens of His pa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ll His dazzling body bear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 of endless exul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His ransomed worshipe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what rapture, with wh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pture, with what rap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ze we on those glorious scar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6 - Lo! He Comes with Clouds Desc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Yea, amen, let all adore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on Thine eternal thr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vior, take the pow'r and glo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im the kingdom as Thine ow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, alleluia,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 shalt reign, and Thou alon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0:59:35Z</dcterms:modified>
  <cp:revision>7</cp:revision>
  <dc:subject/>
  <dc:title>Slide 1</dc:title>
</cp:coreProperties>
</file>