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fort, Comfort Ye M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U DICH S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Olearius, 1611-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rente quatre Pseaumes de David, Geneva, 1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7 - Comfort, Comfort Y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"Comfort, comfort ye My peop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 ye peace!" thus saith our Go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omfort those who sit in dark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urning 'neath their sorrows' loa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 ye to Jerusa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peace that waits for the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her that her sins I co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r warfare now is over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7 - Comfort, Comfort Y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Yea, her sins our God will pard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tting out each dark misde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well deserved His an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no more will see or h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hath suffered many a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her griefs have passed a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will change her pining sa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 ever-springing glad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7 - Comfort, Comfort Y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ark, the herald's voice is cr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desert far and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ing sinners to repentan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the Kingdom now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that warning cry obe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prepare for God a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valleys rise to meet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hills bow down to greet Hi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7 - Comfort, Comfort Ye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Make ye stra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ong was crook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the rougher places plai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hearts be true and humb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befits His holy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glory of the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o'er earth is shed abro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ll flesh shall see the to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is Word is never brok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10:16Z</dcterms:modified>
  <cp:revision>7</cp:revision>
  <dc:subject/>
  <dc:title>Slide 1</dc:title>
</cp:coreProperties>
</file>