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g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Brownlie, 1859-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Wyeth, Repository of Sacred Mus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II, Harrisburg, 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8 - The King Shall Come When Morning Daw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triumphant break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beauty gilds the eastern h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fe to joy awak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8 - The King Shall Come When Morning Daw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as of old a little chi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ar and fight and di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rowned with glory like the 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ights the morning sk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8 - The King Shall Come When Morning Daw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brighter than the rising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Christ, victorious, r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ft the lonesome place of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ite the rage of fo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8 - The King Shall Come When Morning Daw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brighter than that glorious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dawn upon our 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when Christ in splendor c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shall see His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8 - The King Shall Come When Morning Daw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and beauty br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, Christ the Lord! Your people pra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quickly, King of k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20T00:57:18Z</dcterms:modified>
  <cp:revision>8</cp:revision>
  <dc:subject/>
  <dc:title>Slide 1</dc:title>
</cp:coreProperties>
</file>