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vior of the Nations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KOMM, DER HEIDEN HE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ttr. Ambrose of Milan, 340-3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2006 Concordia Publishing House (st. 3,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Savior of the nations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's Son, make here Your ho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vel now, O heav'n and ea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e Lord chose such a bi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by human flesh and b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Spirit of our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the Word of God made flesh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's offspring, pure and fre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re * **** *** ***** **** chi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******** * ****** mi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 **** **** ***** *** show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 ***** **** ***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n stepped forth the Lord of 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His pure and kingly ha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God, yet fully ma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heroic course bega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God the Father was His sour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 to God He ran His cour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 hell His road went d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 then to His throne and cr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For *** *** *** ******'*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 ***** *** ****'** w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**** ****** ***'* **** who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 *** **** ** ***** *** sou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From *** ****** ***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s ** ***** ******* *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rkness ***** ** **** resid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 ***** ***** *** abid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2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8] Glory to the Father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to the Son, our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to the Spirit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and through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0:55:42Z</dcterms:modified>
  <cp:revision>8</cp:revision>
  <dc:subject/>
  <dc:title>Slide 1</dc:title>
</cp:coreProperties>
</file>