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Thou Precious Ransom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EINEN JESUM LASS' ICH NICHT (DARMSTA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G. Olearius, 1635-17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Neu-verfertigtes Darmstädtis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sang-Buch, 1699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0 - Come, Thou Precious Ransom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Thou precious Ransom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hope for sinful mortal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O Savior of the worl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are to Thee all portal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Thy beauty let us s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xiously we wait for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0 - Come, Thou Precious Ransom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Enter now my waiting he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ious King and Lord most ho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well in me and ne'er de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I am but poor and low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, what riches will be m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hou art my guest divin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0 - Come, Thou Precious Ransom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My hosannas and my pal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ciously receive, I pray Th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, as best I ca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vior, I will homage pay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n faith I will emb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Thy merit through Thy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0 - Come, Thou Precious Ransom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ail! Hosanna, David's S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hear our supplicati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y kingdom, scepter, crow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 us blessing and salv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forever we may s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il! Hosanna to our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13:10Z</dcterms:modified>
  <cp:revision>7</cp:revision>
  <dc:subject/>
  <dc:title>Slide 1</dc:title>
</cp:coreProperties>
</file>