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712960" y="6400800"/>
            <a:ext cx="37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ymn words omitted due to copyright re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see ending credits for acknowledg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Service Book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ft Up Your Heads, You Everlasting Do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ON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Stephen P. Starke, b. 19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Paul Liljestrand, b. 19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9 - Lift Up Your Heads, You Everlasting Door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Lift ** **** *****, *** *********** door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* ** mor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****'* ********, s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***** **** ****** K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**** *** ******'* pal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* *** ******* psalm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"Lift ** **** *****, *** *********** gates!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**** awaits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9 - Lift Up Your Heads, You Everlasting Door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Who ** **** **** ** ***** *** ******** fam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** *** nam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rd *** ** Sabaoth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**** *** ******** wrot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se ******, ****** ste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lares *** **** indeed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sanna, ****! *******, **** *** sa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*** *** grav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9 - Lift Up Your Heads, You Everlasting Door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Who *** ****** ***** ****'* **** hil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** ***'* will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 ***** ********* han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**** *** ***'* demand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se ****** with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eals *** **** **** si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, ****** **** **** ***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***** *** ***** ** throne--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ise *** alon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9 - Lift Up Your Heads, You Everlasting Door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"Worthy ** ******!" *** **** *** **** *** sla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***** ** reig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***** *** ******* wa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**** ** ******* Days--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**** *** ******* so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ng ** *** ******** throng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"Worthy ** ******!" *** **** ** ******* again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n! Amen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7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© 2003 Stephen P. Star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min. Concordia Publishing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© 1970 The Hymn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9T01:02:30Z</dcterms:modified>
  <cp:revision>8</cp:revision>
  <dc:subject/>
  <dc:title>Slide 1</dc:title>
</cp:coreProperties>
</file>