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Service Book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3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eator of the Stars of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ONDITOR ALME SIDE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Latin, c. 5th-10th c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Sarum plainsong, Mode IV, c. 9th c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51 - Creator of the Stars of Nigh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Creator of the stars of nigh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y people's everlasting Light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Christ, Redeemer, save us al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hear Thy servants when they cal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51 - Creator of the Stars of Nigh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Thou, grieving that the ancient cur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ould doom to death a univers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st found the healing, full of grac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cure and save our ruined ra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51 - Creator of the Stars of Nigh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Thou cam'st th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idegroom of the brid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drew the world to eventid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potless Victim all divi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eding from a virgin shrin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51 - Creator of the Stars of Nigh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At whose dread name, majestic now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knees must bend, all hearts must bow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things celestial Thee shall ow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things terrestrial, Lord alon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51 - Creator of the Stars of Nigh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O Thou, whose coming is with dre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judge the living and the dea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rve us from the ancient fo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ile still we dwell on earth below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51 - Creator of the Stars of Nigh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6] To God the Father and the S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Holy Spirit, Three in On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ise, honor, might, and glory b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age to age eternall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0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9T01:14:08Z</dcterms:modified>
  <cp:revision>7</cp:revision>
  <dc:subject/>
  <dc:title>Slide 1</dc:title>
</cp:coreProperties>
</file>