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Service Book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dvent of Our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.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Coffin, 1676-17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aron Williams, 1731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advent of our 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prayers must now emplo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e must hymns of welcome 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trains of holy j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everlasting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arnate deigns to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self a servant's form puts 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et His servants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 Zion's Daughter, 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eet your lowly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 let a faithless heart desp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e He comes to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s judge, on clouds of l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oon will come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is true members all un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im in heav'n to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Before the dawning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sin's dark deeds be g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inful self be put a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w self now put 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1 - The Advent of Our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All glory to the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comes to set us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Father, Spirit, ever 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all eter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9T00:54:44Z</dcterms:modified>
  <cp:revision>7</cp:revision>
  <dc:subject/>
  <dc:title>Slide 1</dc:title>
</cp:coreProperties>
</file>