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6584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0272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2860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6584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0272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28600" y="274320"/>
            <a:ext cx="86868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4"/>
          <p:cNvSpPr/>
          <p:nvPr/>
        </p:nvSpPr>
        <p:spPr>
          <a:xfrm>
            <a:off x="344520" y="638280"/>
            <a:ext cx="845496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Lutheran Service Book’ Ed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Text Box 5"/>
          <p:cNvSpPr/>
          <p:nvPr/>
        </p:nvSpPr>
        <p:spPr>
          <a:xfrm>
            <a:off x="344520" y="177804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ymn #34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 Box 6"/>
          <p:cNvSpPr/>
          <p:nvPr/>
        </p:nvSpPr>
        <p:spPr>
          <a:xfrm>
            <a:off x="344520" y="2344680"/>
            <a:ext cx="8454960" cy="5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 Jordan's Bank the Baptist's C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382680" y="426240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PUER NOB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344520" y="33544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t: Charles Coffin, 1676-174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344520" y="5654520"/>
            <a:ext cx="8454960" cy="581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2"/>
          <p:cNvSpPr/>
          <p:nvPr/>
        </p:nvSpPr>
        <p:spPr>
          <a:xfrm>
            <a:off x="344520" y="47242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une: Michael Prätorius, 1571-16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3"/>
          <p:cNvSpPr/>
          <p:nvPr/>
        </p:nvSpPr>
        <p:spPr>
          <a:xfrm>
            <a:off x="344520" y="283536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344 - On Jordan's Bank the Baptist's Cry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1] On Jordan's bank the Baptist's cr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nounces that the Lord is nigh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wake and hearken, for he bring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lad tidings of the King of kings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344 - On Jordan's Bank the Baptist's Cry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2] Then cleansed be ev'ry life from sin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ke straight the way for God within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let us all our hearts prepa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r Christ to come and enter ther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344 - On Jordan's Bank the Baptist's Cry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3] We hail Thee as our Savior, Lord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r refuge and our great reward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ithout Thy grace we waste awa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ke flow'rs that wither and decay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344 - On Jordan's Bank the Baptist's Cry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4] Lay on the sick Thy healing han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make the fallen strong to stand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how us the glory of Thy fac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ill beauty springs in ev'ry plac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344 - On Jordan's Bank the Baptist's Cry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5] All praise, eternal Son, to The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se advent sets Thy people fre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m with the Father we ado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Holy Spirit, evermor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4" descr="cross-o"/>
          <p:cNvPicPr/>
          <p:nvPr/>
        </p:nvPicPr>
        <p:blipFill>
          <a:blip r:embed="rId1"/>
          <a:stretch/>
        </p:blipFill>
        <p:spPr>
          <a:xfrm>
            <a:off x="4062240" y="1844640"/>
            <a:ext cx="1020960" cy="14954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58" name="Text Box 17"/>
          <p:cNvSpPr/>
          <p:nvPr/>
        </p:nvSpPr>
        <p:spPr>
          <a:xfrm>
            <a:off x="2425680" y="676440"/>
            <a:ext cx="429264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0"/>
          <p:cNvSpPr/>
          <p:nvPr/>
        </p:nvSpPr>
        <p:spPr>
          <a:xfrm>
            <a:off x="2123280" y="5654520"/>
            <a:ext cx="490068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1"/>
          <p:cNvSpPr/>
          <p:nvPr/>
        </p:nvSpPr>
        <p:spPr>
          <a:xfrm>
            <a:off x="344520" y="3887640"/>
            <a:ext cx="8454960" cy="66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: 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2"/>
          <p:cNvSpPr/>
          <p:nvPr/>
        </p:nvSpPr>
        <p:spPr>
          <a:xfrm>
            <a:off x="344520" y="4573440"/>
            <a:ext cx="8454960" cy="641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une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23:09:45Z</dcterms:created>
  <dc:creator>Kitty</dc:creator>
  <dc:description/>
  <dc:language>en-US</dc:language>
  <cp:lastModifiedBy>Kitty</cp:lastModifiedBy>
  <dcterms:modified xsi:type="dcterms:W3CDTF">2009-02-19T01:07:21Z</dcterms:modified>
  <cp:revision>7</cp:revision>
  <dc:subject/>
  <dc:title>Slide 1</dc:title>
</cp:coreProperties>
</file>