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Lord, How Shall I Mee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E SOLL ICH DICH EMPF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aul Gerhardt, 1607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Crüger, 1598-1662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4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Lord, how shall I meet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welcome You arigh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people long to greet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ope, my heart's deligh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, kindle, Lord most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lamp within my bre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do in spirit low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at may please You b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4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Your Zion strews before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n boughs and fairest palm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 too will adore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joyous songs and psalm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eart shall bloom for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You with praises n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rom Your name shall n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hold the honor du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4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I lay in fetters, groan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me to set me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stood, my shame bemoan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me to honor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glorious crown You give 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reasure safe on hig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ill not fail or leave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earthly riches f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4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Love caused Your incarnatio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bought You down to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thirst for my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ured my liber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love beyond all t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led You to emb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love, all love exc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lost and fallen 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4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Sin's debt, that fearful burde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not His love eras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guilt the Lord will pard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over by His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omes, for you procu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e of sin forgi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children thus secu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ernal life in hea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4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He comes to judge the nation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error to His fo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ght of consol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lessed hope to th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love the Lord's appea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glorious Sun, now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 forth Your beams so chee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uide us safely h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0:57:39Z</dcterms:modified>
  <cp:revision>7</cp:revision>
  <dc:subject/>
  <dc:title>Slide 1</dc:title>
</cp:coreProperties>
</file>