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rk! A Thrilling Voice Is S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E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Latin, c. 5th-10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William H. Monk, 1823-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5 - Hark! A Thrilling Voice Is Sou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Hark! A thrilling voice is sound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Christ is near," we hear it s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Cast away the works of dark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you children of the day!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5 - Hark! A Thrilling Voice Is Sou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Startled at the solemn warn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earthbound soul aris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, its sun, all sloth dispel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ines upon the morning ski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5 - Hark! A Thrilling Voice Is Sou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See, the Lamb, so long expect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s with pardon down from heav'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haste, with tears of sorr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and all, to be forgiv'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5 - Hark! A Thrilling Voice Is Sou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So, when next He comes in gl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world is wrapped in f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ill shield us with His mer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ith words of love draw n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5 - Hark! A Thrilling Voice Is Sou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Honor, glory, might, domin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e Father and the 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he everliving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eternal ages ru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08:19Z</dcterms:modified>
  <cp:revision>7</cp:revision>
  <dc:subject/>
  <dc:title>Slide 1</dc:title>
</cp:coreProperties>
</file>