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All the World Was Cu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AS FRAG ICH NACH DER W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G. Olearius, 1635-17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hasverus Fritsch, 1629-1701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6 - When All the World Was Curs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When *** *** ***** *** cur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*****' condemn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int **** *** ******* c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** ** consol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* **********'* ze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* *** ** nam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, ** *** unknow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****** ** proclaim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6 - When All the World Was Curs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Before ** *** *** bo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* ** ****** meet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essing *** **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****** ** *** greet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******'* ******* strea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 ****** bo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**** **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**** *** ******** tol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6 - When All the World Was Curs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Behold *** **** **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* *** *****'* transgress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********* remo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'* ***** oppress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old *** **** ** G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***** **** *** s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*** *** ***** *** j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**** ********* w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6 - When All the World Was Curs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 *****, **** **** **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 *******, rejoic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******** ** Joh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 ********** voic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** ** *** wal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on *** ******'* 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** **** ****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 ******* d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41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09:17Z</dcterms:modified>
  <cp:revision>8</cp:revision>
  <dc:subject/>
  <dc:title>Slide 1</dc:title>
</cp:coreProperties>
</file>