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Thou Long-Expected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EFF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Wesley, 1707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William Walker, Southern Harmony, 18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8 - Come, Thou Long-Expected Jes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Thou long-expected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to set Thy people fr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our fears and sins release 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find our rest in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rael's strength and consol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pe of all the earth Thou 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ar desire of ev'ry n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y of ev'ry longing hear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8 - Come, Thou Long-Expected Jes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Born Thy people to deli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a child and yet a k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to reign in us fore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Thy gracious kingdom b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ine own eternal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in all our hearts al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ine all-sufficient me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ise us to Thy glorious thr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01:32Z</dcterms:modified>
  <cp:revision>7</cp:revision>
  <dc:subject/>
  <dc:title>Slide 1</dc:title>
</cp:coreProperties>
</file>