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 the Gla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STE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 Doddridge, 1702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Haweis, 1734-182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 the glad sound! The Savi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promised lo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a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'ry voice a s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omes the pris'ners to rel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atan's bondage h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of brass before Him bur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n fetters yi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omes the broken heart to b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eding soul to cu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the treasures of His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nrich the humble p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9 - Hark the Glad Soun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glad hosannas, Prince of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elcome shall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's eternal arches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y belov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2:12Z</dcterms:modified>
  <cp:revision>7</cp:revision>
  <dc:subject/>
  <dc:title>Slide 1</dc:title>
</cp:coreProperties>
</file>