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Savior, Rend the Heavens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HEILAND, REISS DIE HIMMEL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Friedrich von Spee, 1591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Rheinfelssisch Deutsches Catholisches Gesangbu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sburg, 16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** **** *** ******* w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*, **** **** **** ****** str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ock *** *****, *** ***** ***** d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bar *** *** ** ******'*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**, ***** **** ****** se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*** ***, * ***, desc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op ****, *** ******, *** **** ** spr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'* **** **** **** ***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*****, ** ****'**** *** ** see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the **** *** **** ** **** ** gre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*****, * *****, * ******* ra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, ****** **** ****** fa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***** ** ****, *** ****, *** lo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* **** **** ******* stro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, * ****, **** ****** forego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ole ** ** *** **** ** wo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******* ****, * ******* Su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* ****** ****** **** daw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, *****; ******* 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 ** ***** *** **** 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Sin's ******** **** **** ** li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m ***** ***** ****** ****** *** ey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, **** ** **** ******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 ** *** ******** l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5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There ***** ** *** *** *******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***, *** ******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***** ** **** *** ***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***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9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8:01Z</dcterms:modified>
  <cp:revision>8</cp:revision>
  <dc:subject/>
  <dc:title>Slide 1</dc:title>
</cp:coreProperties>
</file>