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e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ACHT HOCH DIE 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-reiches Gesang-Buch, 17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0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up your heads, ye mighty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, the King of glory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of kings is drawing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of the world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and salvation He doth br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rejoice and gladly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yful song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0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 righteous Helper comes to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ariot is humil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kingly crown is ho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cepter, pity in distr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 of all our woe He br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the earth is glad and s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rist the Savio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rateful hymn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0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w blest the land, the city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Christ the ruler is confess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eaceful hearts and happy h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hom this King in triumph com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oudless sun of joy is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Spirit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appy shout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0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ling wide the portals of your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it a temple set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ly use for heav'n's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ed with prayer and love and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hall your Sov'reign enter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w and nobler life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one be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word and deed and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0 - Lift Up Your Heads, Ye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deemer, come and open 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to Thee; here, Lord, abid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enter with Thy grace div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face of mercy on me sh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Holy Spirit guide u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our glorious goal is w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praise and f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offer to Thy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3:29Z</dcterms:modified>
  <cp:revision>7</cp:revision>
  <dc:subject/>
  <dc:title>Slide 1</dc:title>
</cp:coreProperties>
</file>