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Bride of Christ, Rej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O SOLL ICH FLIEHEN 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Danish, c. 1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Der Bussfertige Sünder, Nürnberg, 1679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5 - O Bride of Christ, Rej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bride of Christ, rejoi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ultant raise thy vo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ail the day of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told in sacred sto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, praise,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King, we bow before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5 - O Bride of Christ, Rej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et shouts of gladness 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umphant to the sk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comes the King most glori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eign o'er all victorio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, praise,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King, we bow before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5 - O Bride of Christ, Rej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A humble beast He rid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as a King presid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not arrayed in splend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makes the grave surrend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, praise,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King, we bow before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5 - O Bride of Christ, Rej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e weak and timid f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meek He is and ki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m He gives a treas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bliss beyond all measu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, praise,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King, we bow before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5 - O Bride of Christ, Rejoi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hen go thy Lord to mee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ew palm leaves at His fee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garments spread befor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nor and adore Hi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, praise,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King, we bow before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0:58:37Z</dcterms:modified>
  <cp:revision>7</cp:revision>
  <dc:subject/>
  <dc:title>Slide 1</dc:title>
</cp:coreProperties>
</file>