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ce He Came in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TTES SOHN IST 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Horn, c. 1490-15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Weisse, c. 1480-1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3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ce He came in bles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our sins redres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e in likeness low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God most hol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e the cross to sav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and freedom gav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3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w ** ****** *****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**** ** *****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ous **** **** heav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edge ** ***** **** giv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na **** **** nour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ls **** **** *** flouri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3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oon **** **** **** h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**** po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* **** ** splen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***** re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 ******** sha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****** comp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3 - Once He Came in Bless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, then, O Lor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sins release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 our hearts believ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, grace receiv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 may confess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in heav'n we bless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2006 Concordia Publishing House (st. 2,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6:40Z</dcterms:modified>
  <cp:revision>8</cp:revision>
  <dc:subject/>
  <dc:title>Slide 1</dc:title>
</cp:coreProperties>
</file>