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fort, Comfort These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 DICH S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Olearius, 1611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rente quatre Pseaumes de David, Geneva, 1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Comfort, Comfort Thes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comfort these my peop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of peace!" so says our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omfort these who sit in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aning under sin's dread r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y people I procl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don now in Jesus'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m that their sin I co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ir warfare now is over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Comfort, Comfort Thes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es, our sins the Lord will pard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tting out each dark misd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well deserved his an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no more will see nor h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, who languished many a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 guilt now washed a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exchange our pining s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is comfort, peace, and gladnes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Comfort, Comfort Thes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Now the herald's voice is c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desert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ing us to true repentan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kingdom now is her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that warning cry obe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prepare for God a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valleys rise to meet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hills bow down to greet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Comfort, Comfort Thes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aight must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ong was crook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 roughest places pla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hearts be true and hum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y for his holy reig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the glory of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s so graciously revea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people see the to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od's word is never broke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5:07Z</dcterms:modified>
  <cp:revision>8</cp:revision>
  <dc:subject/>
  <dc:title>Slide 1</dc:title>
</cp:coreProperties>
</file>