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rk! A Thrilling Voice Is Sou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FREUEN WIR UNS ALL IN 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Latin hymn, 16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Michael Weisse, c. 1480-15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8 - Hark! A Thrilling Voice Is Sound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Hark! A thrilling voice is sounding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"Christ is near," we hear it sa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"Cast away the works of darknes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you children of the day!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8 - Hark! A Thrilling Voice Is Sound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Startled at the solemn warn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the earthbound soul aris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ist, its sun, all sloth dispell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ines upon the morning ski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8 - Hark! A Thrilling Voice Is Sound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See the Lamb, so long expecte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s with pardon down from heav'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us haste, with tears of sorrow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and all to be forgiv'n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8 - Hark! A Thrilling Voice Is Sound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So, when next he comes in gl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the world is wrapped in fea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will shield us with his merc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with words of love draw nea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8 - Hark! A Thrilling Voice Is Sound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Honor, glory, might, domin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the Father and the S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the everliving Spir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ile eternal ages run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8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8T15:15:30Z</dcterms:modified>
  <cp:revision>8</cp:revision>
  <dc:subject/>
  <dc:title>Slide 1</dc:title>
</cp:coreProperties>
</file>