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Jordan's Bank the Baptist's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 Jordan's bank the Baptist's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s that the Lord is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wake and hearken, for he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d tidings of the King of king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n cleansed be ev'ry life from s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 the way for God with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us all our hearts prep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o come and enter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hail you as our Savior,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efuge and our great rewa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your grace we waste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that wither and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etch forth y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, our health rest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 us rise to fall no mo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et your face upon us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the world with love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 to you, eternal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advent has our freedom w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with the Father we ad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1:39Z</dcterms:modified>
  <cp:revision>8</cp:revision>
  <dc:subject/>
  <dc:title>Slide 1</dc:title>
</cp:coreProperties>
</file>