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People, Rise and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US MEINES HERZENS GRU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Valentin Thilo, 1607-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New Catechismus Gesangbüchlein, Hamburg, 1598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O People, Rise and Labo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******, **** *** lab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*** *** he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*****'* ****** Savio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m ***'* **** *** ap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 *** *** **** s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** *** ******** won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 *** **** *** splendo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ctorious, ***** 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O People, Rise and Labo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Prepare **** ******* rig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 *** **** ***** gue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******** *** **** **** vigo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build **** ***** **** ze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 ******* fil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ore ****** plac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***-****** ***** ***** trac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t **** *** ******** hil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O People, Rise and Labo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A ***** **** ****** ******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s ******* ** *** s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* *****, *** ***** w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 **** ** ********* n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***** *** **** ***'* W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 ***** ** ** poin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*** ** *** anoin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 ***** ******** Lor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O People, Rise and Labo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Dear ****, ** **** compa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d **** **** ****** g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*****, * ****, refash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***** **** **** f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**** *** ********* in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 ** ***** **** mang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, ** **** * strang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ernal ****** beg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82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22:13Z</dcterms:modified>
  <cp:revision>9</cp:revision>
  <dc:subject/>
  <dc:title>Slide 1</dc:title>
</cp:coreProperties>
</file>