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Praise, O Christ, Your Hol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ELOBET SEIST 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rman hymn, 1370 (s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tin Luther, 1483-1546 (st. 2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Eyn Enchiridion oder Handbüchlein, Erfurt, 15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We Praise, O Christ, Your Holy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We ******, * ******, **** ****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ly ***** ***** *** c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** ****; **** **** ** tr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** *** ********* to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We Praise, O Christ, Your Holy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w ** *** ****** *** ***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*** **** etern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 ***'* *******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******* ** *** **** ***** *** b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We Praise, O Christ, Your Holy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****** ****** ***** ** sle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*** ***** *** ****** deep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****** ** *** **** **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*** *** ******* ****** obe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We Praise, O Christ, Your Holy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 ***** *******, ******** throu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*** ***** ** ***** ane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 **** ******* *** **** 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 ******** ** ***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We Praise, O Christ, Your Holy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he ******, ***'* **** ***, **** he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est ***** *** **** ** f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 ***** ** *** ** wo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 *** ***** **** ** 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We Praise, O Christ, Your Holy N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Such ***** ****** ** *** ***** 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ngth *** ******* *** ***** *** he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* ****, ***** **** voi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*****, *******, rejoi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8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31:51Z</dcterms:modified>
  <cp:revision>9</cp:revision>
  <dc:subject/>
  <dc:title>Slide 1</dc:title>
</cp:coreProperties>
</file>