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Lutheran Worship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 Bride of Christ, Rej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WO SOLL ICH FLIEHEN H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Danish author unknown, c. 1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Der Bussfertige Sünder, Nürnberg, 1679, a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0 - O Bride of Christ, Rejoic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O bride of Christ, rejoic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ultant raise your voic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w comes the King, who glorio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igns over all victoriou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Refrain] Hosanna! Now adore him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r king; we bow before him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0 - O Bride of Christ, Rejoic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Let shouts of gladness ri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iumphant to the skie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King who comes in meekne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 strong to heal our weaknes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Refrain] Hosanna! Now adore him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r king; we bow before him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0 - O Bride of Christ, Rejoic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Your heart now open wid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d Christ with you abid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graciously will hear yo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be forever near you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Refrain] Hosanna! Now adore him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r king; we bow before him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4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8T15:17:25Z</dcterms:modified>
  <cp:revision>8</cp:revision>
  <dc:subject/>
  <dc:title>Slide 1</dc:title>
</cp:coreProperties>
</file>