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ce He Came in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GOTTES SOHN IST KO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 Horn, c. 1490-15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ichael Weisse, c. 1480-15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0 - Once He Came in Bless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nce he came in bles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our sins redress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me in likeness low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God most hol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e the cross to save u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pe and freedom gave 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0 - Once He Came in Bless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Still he comes within u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ill his voice would win 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the sins that hurt u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uld to truth convert 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our foolish err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e he comes in terro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0 - Once He Came in Bless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us, if we have known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ashamed to own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 have spurned him cold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ill trust him bold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ill then receive 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 us, and forgive 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0 - Once He Came in Bless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Those who then are loy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d a welcome roya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then, O Lord Jes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our sins release u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here confess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ll in heav'n we bless you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27:03Z</dcterms:modified>
  <cp:revision>8</cp:revision>
  <dc:subject/>
  <dc:title>Slide 1</dc:title>
</cp:coreProperties>
</file>