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Lutheran Worship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t the Earth Now Praise the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NUN KOMM, DER HEIDEN HEI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Heinrich Held, 1620-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Johann Walther, 1496-15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3 - Let the Earth Now Praise the Lord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Let the earth now praise the Lor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 has truly kept his w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at last to us did sen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ist, the sinner's help and frien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3 - Let the Earth Now Praise the Lord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What the fathers most desire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the prophets' heart inspire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they longed for many a year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nds fulfilled in glory her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3 - Let the Earth Now Praise the Lord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Abram's promised great rewar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Zion's helper, Jacob's Lord--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im of twofold race behold--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uly came, as long foretol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3 - Let the Earth Now Praise the Lord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Welcome, O my Savior, now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oyful, Lord, to you I bow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e into my heart, I pray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h, prepare yourself a way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3 - Let the Earth Now Praise the Lord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5] As your coming was in peac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iet, full of gentlenes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t the same mind dwell in 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ich is yours eternall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3 - Let the Earth Now Praise the Lord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6] Bruise for me the Serpent's hea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, set free from doubt and drea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 may cling to you in faith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afely kept through life and death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3 - Let the Earth Now Praise the Lord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7] Then when you will come agai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 the glorious king to reign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 with joy will see your fac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eely ransomed by your grac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62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8T15:29:56Z</dcterms:modified>
  <cp:revision>8</cp:revision>
  <dc:subject/>
  <dc:title>Slide 1</dc:title>
</cp:coreProperties>
</file>