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Savior, Rend the Heavens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 HEILAND, REISS DIE HIMMEL 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Friedrich von Spee, 1591-16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Rheinfelssisch Deutsches Catholisches Gesangbu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sburg, 16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2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 ****** **** *** ******* wid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****, **** **** **** ****** strid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ock *** *****, *** ***** ***** dow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bar *** *** ** ******'* crow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2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O ******, ***** **** ****** len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******* ***, * ***, desce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op ****, *** ******, *** **** ** spr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*'* **** **** **** *** K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2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O *****, ** ****'**** *** ** se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othe **** *** **** ** **** ** gre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ng *****, * *****, * ******* ra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***, ****** **** ****** fai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2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 ******* ****, * ******* Daw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**** ** **** **** ******* song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*** ** ***! ******* ****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***** ** ***** *** ***** ** n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2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Sin's ******** **** **** ** lie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im ***** ***** ****** ****** *** ey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****, **** ** **** ****** ha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***** ** *** ******** la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2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There ***** ** *** *** ******* b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 ** ***, *** ****** K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***** ** **** *** *** ad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ver *** for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1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69 Concordia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28:58Z</dcterms:modified>
  <cp:revision>9</cp:revision>
  <dc:subject/>
  <dc:title>Slide 1</dc:title>
</cp:coreProperties>
</file>