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dvent of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aron Williams, 1731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advent of our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our theme for pray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let us meet him on the r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lace for him prepa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everlasting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arnate stoops to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self the servant's form put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et his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Zion's daughter, 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eet your lowly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let your faithless heart desp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he comes to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s judge, on clouds of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oon will come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his scattered saints un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im on high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Before the dawning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sin be put to f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nger let the law hold s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alk in freedom's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All glory to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us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ther, Spirit, ever 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15:09:44Z</dcterms:modified>
  <cp:revision>8</cp:revision>
  <dc:subject/>
  <dc:title>Slide 1</dc:title>
</cp:coreProperties>
</file>