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e the Royal Hig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EDEN VÄG FÖR HER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Mikael Franzén, 1772-18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wedish folk tune, 17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Prepare *** ***** high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 n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'** **** *** vall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 **** app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***** *** **** **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told ** ****** sto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***** ** ** ****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 ******'* na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God's ******, *** *** com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 *******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m ******** ***** ******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********! ***** *** s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******* **** *** *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**** ***** ***** ***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***** ** ** ****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 ******'* na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n ***** *** ***** **** o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* ********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, *** **'** 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******* *** ******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, *** **** ******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*, **** ** sing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***** ** ** ****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 ******'* na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is ** ** ******* kingdo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***** **** ****'*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 ** ***** *** free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, *****, *** l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 **** ****** ** sou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***** ** abound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***** ** ** ****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 ******'* na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8 Lutheran Book of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4:09Z</dcterms:modified>
  <cp:revision>9</cp:revision>
  <dc:subject/>
  <dc:title>Slide 1</dc:title>
</cp:coreProperties>
</file>