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anna Now Through Ad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ARIA IST GEB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F. Hernaman, 1838-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Geistliche Kirchengesänge, Köln, 16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6 - Hosanna Now Through Adven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Hosanna now through Adv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loving hearts we 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Jesus Christ is com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 his children's k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6 - Hosanna Now Through Adven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Hosanna! Blessed Jes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in our hearts to dwel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t our lives and vo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praise and glory tel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6 - Hosanna Now Through Adven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osanna! Let this wel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ng out from ev'ry hear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w near to us, O Jes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nevermore depar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6 - Hosanna Now Through Adven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So when we see you com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angels in the sk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anna, loud hosan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be your children's c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13:34Z</dcterms:modified>
  <cp:revision>8</cp:revision>
  <dc:subject/>
  <dc:title>Slide 1</dc:title>
</cp:coreProperties>
</file>