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, Come, Oh,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h, come, oh, come,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nsom captive Isra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ourns in lonely exi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the Son of God app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come, our Wisdom from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ordered all things mightil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us the path of knowledge sh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each us in her ways to 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come, oh, come our Lord of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to your tribes on Sinai's h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ncient times gave holy la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loud and majesty and aw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come, O Rod of Jesse's st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v'ry foe delive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rust your mighty pow'r to sa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them in vict'ry through the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h, come, O Key of David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pen wide our heav'nly h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afe the way that leads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se the path to mise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Oh, come, our Dayspring from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heer us by your drawing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erse the gloomy cloud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eath's dark shadows put to f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Oh, come, Desire of nations, b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ne the hearts of all manki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bid our sad divisions c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e yourself our King of Pe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8:00Z</dcterms:modified>
  <cp:revision>8</cp:revision>
  <dc:subject/>
  <dc:title>Slide 1</dc:title>
</cp:coreProperties>
</file>