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 the Gla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ESTE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hilip Doddridge, 1702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homas Haweis, 1734-1820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 the glad sound! The Savior com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promised lo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v'ry heart prepare a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v'ry voice a s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comes the pris'ners to relea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atan's bondage h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of brass before him bur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n fetters yi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 comes the broken heart to bi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eeding soul to cu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the treasures of his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nrich the humble po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ur glad hosannas, Prince of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lcome shall procl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's eternal arches 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your beloved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6:05Z</dcterms:modified>
  <cp:revision>8</cp:revision>
  <dc:subject/>
  <dc:title>Slide 1</dc:title>
</cp:coreProperties>
</file>