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Father's Love Be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VINUM MYST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relius Clements Prudentius, 348-c. 4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Mode V, 13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f the Father's love begot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e the worlds began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Alpha and Omega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he source, the ending h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things that are, that have be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at future years shall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that birth forever bless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virgin, full of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Holy Ghost conceiv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e the Savior of our 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babe, the world's redeem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evealed his sacred 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is is he whom seers in old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d of with one acc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the voices of the proph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sed in their faithful w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 shines, the long-expect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creation praise its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et the heights of heav'n adore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el hosts, his praises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'rs, dominions, bow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xtol our God and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o tongue on earth be silen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'ry voice in concert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hrist, to you, with God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Spirit, there shall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mn and chant and high thanksgi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shout of jubile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or, glory, and dom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ternal vi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32:49Z</dcterms:modified>
  <cp:revision>8</cp:revision>
  <dc:subject/>
  <dc:title>Slide 1</dc:title>
</cp:coreProperties>
</file>