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King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n Brownlie, 1859-19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n Wyeth, Repository of Sacred Musi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 II, Harrisburg, 18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6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 King shall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morning daw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ght triumphant break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beauty gilds the eastern hi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fe to joy awak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6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Not as of old a little chi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ar and fight and di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crowned with glory like the 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lights the morning sk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6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h, brighter than the rising mo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Christ, victorious, r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ft the lonesome place of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ite the rage of fo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6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h, brighter than that glorious mo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dawn upon our 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when Christ in splendor co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e shall see his 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6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The King shall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morning daw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ght and beauty br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il, Christ the Lord! Your people pra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quickly, King of k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23:11Z</dcterms:modified>
  <cp:revision>8</cp:revision>
  <dc:subject/>
  <dc:title>Slide 1</dc:title>
</cp:coreProperties>
</file>