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ou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ACHT HOCH DIE 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A. Freylinghausen, 1670-17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** **** *****, *** ******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*** **** ** *****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*******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 *** ***** **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******* **** ** ea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t *** **** ****** ** **** m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, *******,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********* **** ** ******** pe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 ****'**** ** relea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***, self-sacrifi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, ***** ******* pr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* ******* ** ** 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t *** **** *** ** ***, *** fri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, ***, ********,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***** ****, * ******* l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 *** ******** ****'* comm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 ***** **** ** *****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 ***** ***** **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** ** *** **** ** bli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 ***** *** ***** **** h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, *****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Unbar *** ****, ***** **** *** do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 ** ***'* ****** rest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 *** ***** **** *** ****** 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* **** *** *** ***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 **** **** ** **** **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** *** ** ***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**** ** b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, *** 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hrist *****, **** *** ******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**** **** ** *****, ****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* **** **** *******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** ****'* ******* ***** ****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* **** ******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* ****** **** *** w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, ** ****** ****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more *** s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2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20:18Z</dcterms:modified>
  <cp:revision>9</cp:revision>
  <dc:subject/>
  <dc:title>Slide 1</dc:title>
</cp:coreProperties>
</file>