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O Precious Ran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EINEN JESUM LASS ICH N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G. Olearius, 1635-17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Neu-verfertigtes Darmstädtis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sang-Buch, 1699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 - Come, O Precious Ranso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O precious Ransom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hope for sinful mortal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O Savior of the worl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are to you all portal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your beauty let us view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xiously we wait for yo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 - Come, O Precious Ranso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Enter now my waiting he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ious King and Lord most ho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well in me and never lea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I am but poor and low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vast riches will be m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you are my guest divi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 - Come, O Precious Ranso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My hosannas and my pal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ciously receive, I pray you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, as best I ca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mage I will gladly pay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n faith I will emb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 eternal by your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 - Come, O Precious Ranso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ail! Hosanna! David's S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hear our supplicati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your kingdom, scepter, cr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 us blessing and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forever we may s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il! Hosanna to our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30:53Z</dcterms:modified>
  <cp:revision>8</cp:revision>
  <dc:subject/>
  <dc:title>Slide 1</dc:title>
</cp:coreProperties>
</file>