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vior of the Nations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UN KOMM, DER HEIDEN HEI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ttr. St. Ambrose, 340-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tin Luther, 1483-15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Walther, 1496-1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5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78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Savior ** *** *******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******** *** ******'* s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vel ******, ******, ear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 *** ***** **** * bi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 ***'* ***'* ** **** ** blo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*** ****** ** ***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*** **** ** *** ** fles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's *********, **** *** fres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ere * **** *** ***** **** chi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gin **** *** undefil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 ******* ** *** kn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*** **** *** ***** ***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en ******* ***** *** **** ** 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 **** *** ****** hal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** ***, ******** ma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* ****** bega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God *** ****** *** *** sour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 ** *** ** *** *** cour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 **** *** **** **** dow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 **** ** *** ****** *** cr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Father's *****, *** **** w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ct'ries *** ** **** s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ght *******, **** ** whol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 *** **** ** ***** *** sou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From *** ****** *******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s * ***** ******* *** n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ght ****** **** ***** subdu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th ***** ********* **** ne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8] Glory ** *** ******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 ** *** ***, ***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 ** *** ******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*** ******* eter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10:41Z</dcterms:modified>
  <cp:revision>9</cp:revision>
  <dc:subject/>
  <dc:title>Slide 1</dc:title>
</cp:coreProperties>
</file>