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, He Comes with Clouds Desc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IC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harles Wesley, 1707-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French folk tune, 17th 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5 - Lo, He Comes with Clouds Desce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o, he comes with clouds descen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ce for ev'ry sinner slai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sand thousand saints atten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ell the triumph of his trai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,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 the Lord returns to reig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5 - Lo, He Comes with Clouds Desce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Ev'ry eye shall now behold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bed in glorious majest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se who set at nought and sold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rced and nailed him to the tr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eply wailing, deeply wail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their true Messiah s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5 - Lo, He Comes with Clouds Desce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ose dear tokens of his Pa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ill his dazzling body bear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 of endless exul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his ransomed worshiper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what rapture, with what rap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ze we on those glorious scar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5 - Lo, He Comes with Clouds Desce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Yea, amen, let all adore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gh on thine eternal thro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vior, take the pow'r and glor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im the kingdom for thine ow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,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 shalt reign, and thou alon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12:37Z</dcterms:modified>
  <cp:revision>8</cp:revision>
  <dc:subject/>
  <dc:title>Slide 1</dc:title>
</cp:coreProperties>
</file>