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ord of Light, Who Made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DITOR ALME SID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 hymn, c. 9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arum plainsong, Mode IV, c. 9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 Lord of Light, Who Made the Sta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**** ** *****, *** **** *** sta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, ** **** ** *** *** 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, ******** ** *** worl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* *** ****** ** ** pra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 Lord of Light, Who Made the Sta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In ********* *** **** ** ea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* ** **** *****'* snar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** **** **** ****** *** wou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****** ** *** ****** car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 Lord of Light, Who Made the Sta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o *** *** **** ** **** *** s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*** ***** *** **** *** pri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*** ****'* **** *** c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* **** *** sacrifi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 Lord of Light, Who Made the Sta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But *** *** *****, *** **** ** king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red ** ******* majest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 **** ** **** ** aw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 ** **** *** *** ** se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 Lord of Light, Who Made the Sta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Great ***** ** ***, ** *****'* ****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**** ** **** ********'* pl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e ** ** ****** ** **** **** gr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iver ** **** *****'* m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 Lord of Light, Who Made the Sta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To *** *** ****** *** ***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***, ***** **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, *****, *****, *** *****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 ** *** eterna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61-62 World Librar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4:32Z</dcterms:modified>
  <cp:revision>9</cp:revision>
  <dc:subject/>
  <dc:title>Slide 1</dc:title>
</cp:coreProperties>
</file>