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Lord, How Shall I Mee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E SOLL ICH DICH EMP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Crüger, 1598-1662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Lord, how shall I m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welcome you arigh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eople long to gr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ope, my heart's deligh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kindle, Lord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lamp within my bre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do in spirit low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at may please you b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Your Zion strews befor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n boughs and fairest palm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 too will ador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joyous songs and psal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eart shall bloom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you with praises n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rom your name shall n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hold the honor d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I lay in fetters, groa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me to set m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stood, my shame bemoa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me to honor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glorious crown you give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reasure safe on hi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ill not fail or leave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earthly riches f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ove caused your incarn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bought you down to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thirst for my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ured my liber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ove beyond all t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ed you to emb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love, all love exc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st and fallen 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Rejoice, then, you sad-hea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sit in deepest gloo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mourn your joys depa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remble at your doo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air not; he is near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, standing at the do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best can help and cheer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ids you weep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He comes to judge the natio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error to his fo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ght of consol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lessed hope to th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love the Lord's appea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glorious Sun, now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 forth your beams so chee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uide us safely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6:28Z</dcterms:modified>
  <cp:revision>8</cp:revision>
  <dc:subject/>
  <dc:title>Slide 1</dc:title>
</cp:coreProperties>
</file>