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O Long-Expecte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EFF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William Walker, Southern Harmony, 18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Come, O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O long-expected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set your people fr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fears and sins release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your death on Calva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rael's strength and consol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to all the earth im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r desire of ev'ry n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 of ev'ry longing he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Come, O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Born your people to deli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a child and yet a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reign in us fore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your gracious kingdom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your own eternal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in all our hearts al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your all-sufficient me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ise us to your glorious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9:21Z</dcterms:modified>
  <cp:revision>8</cp:revision>
  <dc:subject/>
  <dc:title>Slide 1</dc:title>
</cp:coreProperties>
</file>