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"Comfort, Comfort," Says th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RÖSTET, TRÖSTET, SPRICHT DER HE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Waldemar Rode, b. 19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Hans F. Micheelsen, 1902-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1 - "Comfort, Comfort," Says the Voic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"Comfort, *******", **** *** voi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My ****** **** **** *** rejoice.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* ** ***, *** ******** ro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oved ** ******, *** *** ** Go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1 - "Comfort, Comfort," Says the Voic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Gladness, ******** *** **** h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***'* *** ***** *** ***** chee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The ******'* ****, ****** *** fr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given ***** iniquity.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1 - "Comfort, Comfort," Says the Voic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Even, **** *** ***'* pat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 ******** **** ***** ****** *** wrat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 ***** ***, "****** tod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 ** ***** ** ** *** way.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1 - "Comfort, Comfort," Says the Voic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Witness, ******* ** *** wor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 ** *** **** unfurl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 *** *******, *** ****-***** break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***** *** ******** ** mak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1 - "Comfort, Comfort," Says the Voic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Withered, ******** ***** m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s ***** *** *** ** ***** *** bl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*****, **** *****, ***** ** *** co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***'* **** ***** for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1 - "Comfort, Comfort," Says the Voic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Lift **** *****, ***** ***** ** pow'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**** *** **** *** ******* hou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***** *** ****, **** *** ** he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***** *** ***** **** *** *** nea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1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82 Concordia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© 1982 Concordia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18:23Z</dcterms:modified>
  <cp:revision>9</cp:revision>
  <dc:subject/>
  <dc:title>Slide 1</dc:title>
</cp:coreProperties>
</file>