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fore Jehovah's Awe-full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LD HUNDRE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Isaac Watts, 1674-17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Louis Bourgeois, c. 1510-c. 1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Before Jehovah's Awe-full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Before Jehovah's awe-full thr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 nations, bow with sacred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 that the Lord is God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n create, and He destr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Before Jehovah's Awe-full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is sov'reign pow'r, without our ai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us of clay and formed us me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hen like wand'ring sheep we stray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brought us to His fold ag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Before Jehovah's Awe-full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are His people, we His ca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uls and all our mortal fr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sting honors shall we r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mighty Maker, to Thy nam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Before Jehovah's Awe-full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e'll crowd Thy g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ankful so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as the heav'ns our voices rai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arth with her ten thousand tongu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fill Thy courts with sounding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3 - Before Jehovah's Awe-full Thron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Wide as the world is Thy comm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st as eternity Thy lov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m as a rock Thy truth shall st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rolling years shall cease to m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5:45Z</dcterms:modified>
  <cp:revision>9</cp:revision>
  <dc:subject/>
  <dc:title>Slide 1</dc:title>
</cp:coreProperties>
</file>