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People that on Earth do D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LD HUNDRE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Kethe, d. c. 15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Louis Bourgeois, c. 1510-c. 1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ll People that on Earth do Dwe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ll people that on earth do dwe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to the Lord with cheerful vo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serve with fear, His praise forthte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ye before Him and rejoi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ll People that on Earth do Dwe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Lord, ye know, is God inde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our aid He did us mak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His folk, He doth us fe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or His sheep He doth us tak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ll People that on Earth do Dwe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enter then, His gates with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ach with joy His courts unto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, laud, and bless His name alway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it is seemly so to d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ll People that on Earth do Dwe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For why? The Lord, our God, is goo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mercy is forever su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truth at all times firmly st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hall from age to age endu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4 - All People that on Earth do Dwel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o Father, Son, and Holy Gho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d whom heav'n and earth ad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us and from the angel h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praise and glory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6:46Z</dcterms:modified>
  <cp:revision>9</cp:revision>
  <dc:subject/>
  <dc:title>Slide 1</dc:title>
</cp:coreProperties>
</file>