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ue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Will Sing My Maker's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OLLT’ ICH MEINEM G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Schop, 1600-65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I will sing my Maker's pra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Him most joyful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in all things I see tr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His tender love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hing else than love could mov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such sweet and tender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to raise and b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who try to serve and love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else have but their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love abides for ay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ea, so dear did He esteem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His Son He loved so w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th given to redeem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 quenchless flames of he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Thou Spring of boundless bles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e'er my feeble m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y depth the bottom f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' my efforts were unceas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else have but their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love abides for ay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All that for my soul is need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th loving care provid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of that is He unheed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my body needs besid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y strength cannot avail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y pow'rs can do no m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th my God His strength outpou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my need He doth not fail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else have but their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love abides for ay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hen I sleep, He still is near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'er me rests His guardian ey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ew gifts and blessings cheer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morning streaks the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re it not for God's protec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His countenance not be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my guide, I had not se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'er the end of my afflic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else have but their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love abides for ay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s a father never turne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lly from a wayward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prodigal still yearne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ing to be reconcil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my many sins and err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 a tender, pardoning G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stening frailty with His r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, in vengeance, with His terro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ings else have but their d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love abides for ay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Since, then, nei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nor cold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my Father's love can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! I lift my hands with bol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y child I come to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me grace, O God, I pray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I Will Sing My Maker's Prais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I may with all my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y lifetime, day and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and trust Thee and obey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, when this brief life is o'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and love Thee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3-27T21:02:05Z</dcterms:modified>
  <cp:revision>10</cp:revision>
  <dc:subject/>
  <dc:title>Slide 1</dc:title>
</cp:coreProperties>
</file>