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fely through Another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OLLER W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n Newton, 1725-18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G. Ebeling, 1637-16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Safely through Another Week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Safely thro' another we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has brought us on our w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now a blessing seek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iting in His courts toda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y of all the week the be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blem of eternal r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Safely through Another Week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Mercies multiplied each h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' the week our praise dema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arded by almighty pow'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d and guided by His ha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ungrateful we have be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repaying love with si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Safely through Another Week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While we pray for pard'ning g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' the dear Redeemer's n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w thy reconciled f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k not on our sin and sh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our worldly cares set f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we rest this day in The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Safely through Another Week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As we come Thy name to prai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we feel Thy presence n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Thy glory meet our ey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we in Thy house appea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 afford us, Lord, a tas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our everlasting fea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1 - Safely through Another Week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May Thy Gospel's joyful sou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quer sinners, comfort saint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the fruits of grace abou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 relief for all complain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us may all our Sabbaths pr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we join the Church ab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23:44Z</dcterms:modified>
  <cp:revision>9</cp:revision>
  <dc:subject/>
  <dc:title>Slide 1</dc:title>
</cp:coreProperties>
</file>