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rd, We Come Before The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I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William Hammond, 1719-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ustin H. Knecht, 1752-18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Lord, We Come Before Thee Now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ord, we come before Thee n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Thy feet we humbly bow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do not our suit disdai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we seek Thee, Lord, in vai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Lord, We Come Before Thee Now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Lord, on Thee our souls depen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compassion now desce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ll our hearts with Thy rich gr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une our lips to sing Thy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Lord, We Come Before Thee Now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In Thine own appointed 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e seek Thee, here we st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, we know not how to 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a blessing Thou bestow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Lord, We Come Before Thee Now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Send some message from Thy W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may joy and peace affor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y Spirit now imp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ll salvation to each hear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Lord, We Come Before Thee Now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Comfort those who weep and mour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time of joy retur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se that are cast down lift up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them strong in faith and hop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8 - Lord, We Come Before Thee Now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Grant that all may seek and fi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e a gracious God and ki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 the sick, the captive fr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all rejoice in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30:48Z</dcterms:modified>
  <cp:revision>9</cp:revision>
  <dc:subject/>
  <dc:title>Slide 1</dc:title>
</cp:coreProperties>
</file>