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lue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We Begin Another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ERR JESU CHRIST, MEIN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Martin Wandersleben, 1608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As hymnodus sacer, Leipzig, 16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7 - As We Begin Another Week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As ** ***** ******* week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*****' **** **** **** ** seek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, ***** **** ****' ***** ***** d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**** *** ****** *** way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7 - As We Begin Another Week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y ****** *********, ****, outp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*** *** ****** evermor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 **** *** **** ****** f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 *** ****** ** *** wi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7 - As We Begin Another Week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In **'** ******, **'** pl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** ****** *** **** ** g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, **** ****'* ***** *** ** p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***** ******* *** ** l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7 - As We Begin Another Week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And **** **** ****** ** *** r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* ******** ** *** bl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***** ** ** ******* ******, ***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****** **** **** **** *** thr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Tr. © 1940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5-05T14:49:46Z</dcterms:modified>
  <cp:revision>11</cp:revision>
  <dc:subject/>
  <dc:title>Slide 1</dc:title>
</cp:coreProperties>
</file>