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6584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0272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2860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6584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0272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28600" y="274320"/>
            <a:ext cx="86868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4"/>
          <p:cNvSpPr/>
          <p:nvPr/>
        </p:nvSpPr>
        <p:spPr>
          <a:xfrm>
            <a:off x="344520" y="638280"/>
            <a:ext cx="845496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The Lutheran Hymnal’ Ed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Text Box 5"/>
          <p:cNvSpPr/>
          <p:nvPr/>
        </p:nvSpPr>
        <p:spPr>
          <a:xfrm>
            <a:off x="344520" y="177804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ymn #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 Box 6"/>
          <p:cNvSpPr/>
          <p:nvPr/>
        </p:nvSpPr>
        <p:spPr>
          <a:xfrm>
            <a:off x="344520" y="2344680"/>
            <a:ext cx="8454960" cy="5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h, Worship the 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382680" y="426240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HANO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344520" y="33544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t: Robert Grant, 1779-183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344520" y="5654520"/>
            <a:ext cx="8454960" cy="581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2"/>
          <p:cNvSpPr/>
          <p:nvPr/>
        </p:nvSpPr>
        <p:spPr>
          <a:xfrm>
            <a:off x="344520" y="47242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une: William Croft, 1678-17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3"/>
          <p:cNvSpPr/>
          <p:nvPr/>
        </p:nvSpPr>
        <p:spPr>
          <a:xfrm>
            <a:off x="344520" y="283536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17 - Oh, Worship the King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1] Oh, worship the King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l glorious above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h, gratefully sing His pow'r and His love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r Shield and Defender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Ancient of Days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vilioned in splendo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girded with praise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17 - Oh, Worship the King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2] Oh, tell of His might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h, sing of His grac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se robe is the light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se canopy space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is chariots of wrath Th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ep thunderclouds form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dark is His path 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wings of the storm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17 - Oh, Worship the King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3] This earth with i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ore Of wonders untold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mighty, Thy pow'r, Hath founded of old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ablished it fast by a changeless decre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round it hath cast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ke a mantle, the sea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17 - Oh, Worship the King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4] Thy bountiful ca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at tongues can recite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t breathes in the air, It shines in the light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t streams from the hills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t descends to the plain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sweetly distills In the dew and the rain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17 - Oh, Worship the King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5] Frail children of dust And feeble as frail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 Thee do we trust nor find Thee to fail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y mercies, how tender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ow firm to the end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r Maker, Defender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deemer, and Friend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17 - Oh, Worship the King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6] O measureless Might, Ineffable Lov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ile angels delight To hymn Thee abov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y humbler creation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ough feeble their lays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ith true ador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hall sing to Thy prais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me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4" descr="cross-o"/>
          <p:cNvPicPr/>
          <p:nvPr/>
        </p:nvPicPr>
        <p:blipFill>
          <a:blip r:embed="rId1"/>
          <a:stretch/>
        </p:blipFill>
        <p:spPr>
          <a:xfrm>
            <a:off x="4062240" y="1844640"/>
            <a:ext cx="1020960" cy="14954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60" name="Text Box 17"/>
          <p:cNvSpPr/>
          <p:nvPr/>
        </p:nvSpPr>
        <p:spPr>
          <a:xfrm>
            <a:off x="2425680" y="676440"/>
            <a:ext cx="429264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0"/>
          <p:cNvSpPr/>
          <p:nvPr/>
        </p:nvSpPr>
        <p:spPr>
          <a:xfrm>
            <a:off x="2123280" y="5654520"/>
            <a:ext cx="490068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1"/>
          <p:cNvSpPr/>
          <p:nvPr/>
        </p:nvSpPr>
        <p:spPr>
          <a:xfrm>
            <a:off x="344520" y="3887640"/>
            <a:ext cx="8454960" cy="66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: 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2"/>
          <p:cNvSpPr/>
          <p:nvPr/>
        </p:nvSpPr>
        <p:spPr>
          <a:xfrm>
            <a:off x="344520" y="4573440"/>
            <a:ext cx="8454960" cy="641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une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23:09:45Z</dcterms:created>
  <dc:creator>Kitty</dc:creator>
  <dc:description/>
  <dc:language>en-US</dc:language>
  <cp:lastModifiedBy>Vossler</cp:lastModifiedBy>
  <dcterms:modified xsi:type="dcterms:W3CDTF">2009-02-19T02:29:47Z</dcterms:modified>
  <cp:revision>9</cp:revision>
  <dc:subject/>
  <dc:title>Slide 1</dc:title>
</cp:coreProperties>
</file>