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The Lutheran Hymnal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rd Jesus Christ, Be Presen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HERR JESU CHRIST, D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Author unknown, 16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Cantionale Germanicum, Gochsheim, Dresden, 16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 - Lord Jesus Christ, Be Present Now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Lord Jesus Christ, be present now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r hearts in true devotion bow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y Spirit send with grace divin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let Thy truth within us shin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 - Lord Jesus Christ, Be Present Now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Unseal our lips to sing Thy prai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r souls to Thee in worship rais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ke strong our faith, increase our ligh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 we may know Thy name aright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 - Lord Jesus Christ, Be Present Now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Until we join the hosts that cry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"Holy art Thou, O Lord Most High!"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in the light of that blest pla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e'er behold Thee face to fac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 - Lord Jesus Christ, Be Present Now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Glory to God the Father, Son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Holy Spirit, Three in One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Thee, O blessed Trinity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 praise throughout eternity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m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6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Vossler</cp:lastModifiedBy>
  <dcterms:modified xsi:type="dcterms:W3CDTF">2009-02-19T02:15:39Z</dcterms:modified>
  <cp:revision>9</cp:revision>
  <dc:subject/>
  <dc:title>Slide 1</dc:title>
</cp:coreProperties>
</file>