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ther, Who the Light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ED TIL B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ulia A. Elli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Ludvig M. Lindeman, 1812-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Father, Who the Light This D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Father, who the light this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 of darkness didst creat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 upon us now, we pr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within Thy courts we wai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n us from the works of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us children of the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Father, Who the Light This D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Savior, who this day didst bre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rk prison of the tomb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d our slumb'ring souls awak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 thro' all their sin and gloo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, from our bonds set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e from sin and live to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8 - Father, Who the Light This D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Blessed Spirit, Comfor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 this day from Christ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on us Thy gifts conf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nse, illumine, sanctif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y fullness shed abroa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d us to the truth of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20:42Z</dcterms:modified>
  <cp:revision>9</cp:revision>
  <dc:subject/>
  <dc:title>Slide 1</dc:title>
</cp:coreProperties>
</file>