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of Mercy, God of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ATIS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Henry F. Lyte, 1793-18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G. Werner, 1777-18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God of Mercy, God of Gra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God of mercy, God of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the brightness of Thy f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 upon us, Savior, sh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 Thy Church with light div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y saving health ext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earth's remotest 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God of Mercy, God of Gra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et the people praise Thee, L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by all that live ador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nations shout and 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to their Savior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Thy feet their tribute p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y holy will obe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0 - God of Mercy, God of Grac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Let the people praise Thee, L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rth shall then her fruits aff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to us His blessing gi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 to God devoted li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below and all ab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in joy and light and l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32:48Z</dcterms:modified>
  <cp:revision>9</cp:revision>
  <dc:subject/>
  <dc:title>Slide 1</dc:title>
</cp:coreProperties>
</file>