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Himself Is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UNDERBARER KÖN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rhard Tersteegen, 1697-17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achim Neander, 1650-80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God Himself Is Presen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God Himself is presen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now ador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awe appear before Hi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is in His temple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within keep silen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strate lie with deepest rev'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 alone God we ow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, our God and Savio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 His name fore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God Himself Is Presen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God Himself is presen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 the harps resound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 the hosts the throne surround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Holy, holy, holy!"-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 the hymn ascend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gs of saints and angels blend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w Thine ear To us her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, O Christ, the prai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Thy Church now rai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 - God Himself Is Presen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 Thou Fount of bles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ify my spiri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sting only in Thy meri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the holy angel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behold Thy glo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I ceaselessly adore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y will Ever st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Thy Church terrest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the hosts celesti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16:40Z</dcterms:modified>
  <cp:revision>9</cp:revision>
  <dc:subject/>
  <dc:title>Slide 1</dc:title>
</cp:coreProperties>
</file>