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, When We Bend Before Thy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FL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seph D. Carlyle, 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Day, Psalter, 1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ord, When We Bend Before Thy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, when we bend before Thy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ur confessions pou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 us to feel the sins we 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ate what we depl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ord, When We Bend Before Thy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ur broken spirit pitying s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 penitence impar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let a kindling glance from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am hope upon the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ord, When We Bend Before Thy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hen our responsive tongues ess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grateful hymns to 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that our souls may join the l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ount to Thee in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ord, When We Bend Before Thy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hen we disclose our wants in pray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we our wills r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not a thought our bosom sh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is not wholly Th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Lord, When We Bend Before Thy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May faith each meek petition 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aft it to the ski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each our hearts 'tis goodness st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rants it or den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4:50Z</dcterms:modified>
  <cp:revision>9</cp:revision>
  <dc:subject/>
  <dc:title>Slide 1</dc:title>
</cp:coreProperties>
</file>