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Is the Day the Lord Hath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UN DANKET ALL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Isaac Watts, 1674-17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Crüger, 1598-16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0 - This Is the Day the Lord Hath Ma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This is the day the Lord hath mad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alls the hours His ow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heav'n rejoice, let earth be gl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praise surround the thro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0 - This Is the Day the Lord Hath Ma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oday He rose and left the dea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atan's empire fell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y the saints His triumphs spre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all His wonders tel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0 - This Is the Day the Lord Hath Ma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osanna to th' anointed K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David's holy S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us, O Lord; descend and b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vation from Your thro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0 - This Is the Day the Lord Hath Ma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Blest be the Lord, who comes to 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messages of grac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comes in God His Father's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save our fallen r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0 - This Is the Day the Lord Hath Ma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Hosanna in the highest stra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hurch on earth can 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ighest heav'ns, in which He reign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give Him nobler p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22:44Z</dcterms:modified>
  <cp:revision>9</cp:revision>
  <dc:subject/>
  <dc:title>Slide 1</dc:title>
</cp:coreProperties>
</file>