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, Open Thou My Heart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HALT UNS, HE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es Olevearius, 16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seph Klug, Geistliche Lieder, Wittenberg, 1543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Lord, Open Thou My Heart to Hea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, open Thou my heart to h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rough Thy Word to me draw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e Thy Word e'er pure ret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e Thy child and heir rema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Lord, Open Thou My Heart to Hea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y Word doth deeply more the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ord doth perfect health imp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ord my soul with joy doth bl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Word brings peace and happi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5 - Lord, Open Thou My Heart to Hea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o God the Father, God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od the Spirit, Three in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glory, praise, and honor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and throughout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17:41Z</dcterms:modified>
  <cp:revision>9</cp:revision>
  <dc:subject/>
  <dc:title>Slide 1</dc:title>
</cp:coreProperties>
</file>