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The Lutheran Hymnal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Now Thy Gates of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enjamin Schmolck, 1672-17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achim Neander, 1650-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Open Now Thy Gates of Beau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pen now thy gates of beaut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ion, let me enter the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my soul in joyful du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ts for Him who answers pray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how blessed is this pl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ed with solace, light, and grac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Open Now Thy Gates of Beau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Lord, my God, I come before Th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Thou also unto 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we find Thee and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 heav'n on earth must b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y heart, oh, enter Th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it be Thy temple now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Open Now Thy Gates of Beau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re Thy praise is gladly chan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Thy seed is duly s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y soul, where it is plan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forth precious sheaves al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that all I hear may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uitful unto life in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Open Now Thy Gates of Beau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ou my faith increase and quick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me keep Thy gift divi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soe'er temptations thick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Thy Word still o'er me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my guiding star through lif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my comfort in my strif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1 - Open Now Thy Gates of Beaut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Speak, O God, and I will hear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y will be done inde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 undisturbed draw near Th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Thou dost Thy people f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of life the fountain flow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is balm for all our wo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Vossler</cp:lastModifiedBy>
  <dcterms:modified xsi:type="dcterms:W3CDTF">2009-02-19T02:12:42Z</dcterms:modified>
  <cp:revision>9</cp:revision>
  <dc:subject/>
  <dc:title>Slide 1</dc:title>
</cp:coreProperties>
</file>