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hovah, Let Me Now Adore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R, DIR, JE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Bartholomäus Crasselius, 1667-17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ist-reiches Gesang-buch, 17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Jehovah, Let Me Now Adore Th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Jehovah, let me now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where is there a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h, Lord, as Thou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songs I fain would come before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et Thy Holy Spirit teach my 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praise Thee in H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 thro' whom al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ongs can pleas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' Thy blessed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Jehovah, Let Me Now Adore Th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Father, draw me to my Savi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y dear Son may draw me unto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Spirit guide my whole behavi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ule both sense and reason thus in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, Lord, Thy pe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me may ne'er de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ake sweet melodies within my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Jehovah, Let Me Now Adore Th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Grant that Thy Spirit prompt my prais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shall my sing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ely please Thine 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et are the sounds my heart then rais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prayer in truth and spirit Thou wilt h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shall Thy Spirit lift my heart to Th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ing Thee psalms o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in high deg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Jehovah, Let Me Now Adore Th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or He can plead for me with sigh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re unspeakable to lips like mi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bids me pray with earnest crying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ars witness with my soul that I am Th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int heir with Christ, 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s may dare to sa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heav'nly Father, hear me when I pr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Jehovah, Let Me Now Adore Th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When thus my he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prayer ascende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Thine own Holy Spirit, unto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heart, O Father, kindly bende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fervent love and favor unto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joicing my petition to ful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ch I have made according to Thy wi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1 - Jehovah, Let Me Now Adore The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And what Thy Spirit thus hath taught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eek from Thee mu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s be such a pra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ou wilt grant, throu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who bought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aised me up to be Thy child and he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Jesus' name I boldly seek Thy 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ake from Thee, 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er, grace for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3:50Z</dcterms:modified>
  <cp:revision>9</cp:revision>
  <dc:subject/>
  <dc:title>Slide 1</dc:title>
</cp:coreProperties>
</file>