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Day of Rest and Gla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LLACOM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ristopher Wordsworth, 1807-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. V. Werkmeister, Gesang-Buch der Herzogl, Hofkape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ürttemberg, 1784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9 - O Day of Rest and Glad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day of rest and glad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day of joy and l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balm for care and sad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beautiful, most br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thee the high and low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fore th' eternal thr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, "Holy, holy, holy,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 great Three in 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9 - O Day of Rest and Glad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n thee at the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ight first had its birt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thee for our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rose from depths of eart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thee our Lord victori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pirit sent from heav'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us on thee, most glorio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hreefold light was gi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9 - O Day of Rest and Glad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ou art a cooling fount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life's dry, dreary sa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thee, like Nebo's mounta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view our Promised La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ay of sweet refec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ay of holy l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ay of resu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earth to things ab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9 - O Day of Rest and Glad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oday on weary n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av'nly manna fall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holy convo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ilver trumpet call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Gospel-light is glow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pure and radiant be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ving water flow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soul-refreshing stream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9 - O Day of Rest and Gladnes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New graces ever gai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this our day of r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reach the rest remai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spirits of the bl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Holy Ghost be prais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Father, and to So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urch her voice uprai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e, blest Three in 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21:44Z</dcterms:modified>
  <cp:revision>9</cp:revision>
  <dc:subject/>
  <dc:title>Slide 1</dc:title>
</cp:coreProperties>
</file>