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Praise to God, Who Reign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OBT DEN HERRN, I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J. Schütz, 1640-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elchior Vulpius, c. 1570-16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All Praise to God, Who Reigns Ab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All praise to God who reigns ab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d of all cre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d of wonders, pow'r, and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d of our salvati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ealing balm my soul He fill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d who ev'ry sorrow stills,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all praise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All Praise to God, Who Reigns Ab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What God's almighty pow'r hath m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gracious mercy keepet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morning dawn or evening sh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watchful eye ne'er sleepet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in the kingdom of His m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, all is just and all is right,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all praise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All Praise to God, Who Reigns Ab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I cried to Him in time of ne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 God, oh, hear my call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death He gave me life ind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kept my feet from fal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is my thanks shall endless b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thank Him, thank our God with me,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all praise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All Praise to God, Who Reigns Ab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e Lord forsaketh not His flock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chosen generatio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their Refuge and their Rock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Peace and their Salv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with a mother's tender h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leads His own, His chosen band,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all praise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All Praise to God, Who Reigns Ab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Ye who confess Christ's holy n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give praise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 who the Father's pow'r procla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give praise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idols under foot be tro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rd is God! The Lord is Go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all praise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9 - All Praise to God, Who Reigns Ab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Then come before His presence n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anish fear and sadne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your Redeemer pay your v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ing with joy and gladnes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great distress my soul befel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rd, my God did all things well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 all praise and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31:48Z</dcterms:modified>
  <cp:revision>9</cp:revision>
  <dc:subject/>
  <dc:title>Slide 1</dc:title>
</cp:coreProperties>
</file>