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The Lutheran Hymnal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rd of My Life, Whose Tender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O JE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Omega, Chelsea, 18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Evangelisches Gesangbuch, Hirschberg, 17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 - Lord of My Life, Whose Tender Car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Lord of my life, whose tender ca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th led me on till now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re lowly, at the hour of praye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fore Thy throne I bow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bless Thy gracious hand and pr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giveness for another da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 - Lord of My Life, Whose Tender Car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Oh, may I daily, hourly, str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heav'nly grace to grow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Thee and to Thy glory liv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ad to all else below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d in the path my Savior tro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o' thorny, yet the path of Go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 - Lord of My Life, Whose Tender Car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With prayer my humble praise I br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mercies day by da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rd, teach my heart Thy love to si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rd, teach me how to pra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that I have and am, to The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offer thro' eternit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4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Vossler</cp:lastModifiedBy>
  <dcterms:modified xsi:type="dcterms:W3CDTF">2009-02-19T02:36:50Z</dcterms:modified>
  <cp:revision>9</cp:revision>
  <dc:subject/>
  <dc:title>Slide 1</dc:title>
</cp:coreProperties>
</file>