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ue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yrie, God Father in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YRIE, GOTT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, c. 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based on Kyrie fons bonitatis, c.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Kyrie, God Father in Heaven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Kyrie, ***, ****** ** ****'* ab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*** **** ** ***** ***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 ****** *** ***** *** Preser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ison, elei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rie, * ******, ***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vation *** ******* **** *****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* *****, ***'* ***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* ** *** ****'*** thr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6 - Kyrie, God Father in Heaven Abov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*** *** *** ***** *** supplic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ison, elei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yrie, * *** *** **** Gho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rd *** *****, *** **** ** **** *** mos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**** *** **** **** bl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 ***** **** ****** ***** **** glad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ison, elei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Tr. © 1939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5-05T14:48:12Z</dcterms:modified>
  <cp:revision>11</cp:revision>
  <dc:subject/>
  <dc:title>Slide 1</dc:title>
</cp:coreProperties>
</file>