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The Lutheran Hymnal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essed Jesus, at Thy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LIEBSTER JE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Tobias Clausnitzer, 1619-84 (st. 1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hor unknown (st.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Johann R. Ahle, 1625-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6 - Blessed Jesus, at Thy Wor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Blessed Jesus, at Thy w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have gathered all to hear The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our hearts and souls be stir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to seek and love and fear The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Thy teachings, sweet and hol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awn from earth to love Thee solel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6 - Blessed Jesus, at Thy Wor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All our knowledge, sense, and s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e in deepest darkness shroud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ll Thy Spirit breaks our n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the beams of truth uncloud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ou alone to God canst win u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ou must work all good within u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6 - Blessed Jesus, at Thy Wor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Glorious Lord, Thyself impar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ght of Light, from God proceed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n Thou our ears and hear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 us by Thy Spirit's plead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r the cry Thy people raise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r and bless our prayers and prais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6 - Blessed Jesus, at Thy Wor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Father, Son, and Holy Ghos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ise to Thee and adoration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t that we Thy word may tru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obtain true conso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le we here below must wande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ll we sing Thy praises yonde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Vossler</cp:lastModifiedBy>
  <dcterms:modified xsi:type="dcterms:W3CDTF">2009-02-19T02:28:47Z</dcterms:modified>
  <cp:revision>9</cp:revision>
  <dc:subject/>
  <dc:title>Slide 1</dc:title>
</cp:coreProperties>
</file>