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lelujah! Let Praises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E SCHÖN LEUCH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uthor unknown, 16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hilipp Nicolai, 1556-1608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Hallelujah! Let Praises 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allelujah! Let praises r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the Father let us b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ongs of ador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Him thro' everlasting d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worship, honor, pow'r, and pra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hand sustains cre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ing, ringing: Holy,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is holy,-- Spread the 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our God, the Lord of Glo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Hallelujah! Let Praises 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allelujah! Let praises r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o the Lamb of God we 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whom we are elect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bo't His Church with His own blo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leansed her in that blessed flo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s His bride select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y, holy Is our un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ommunion. His befrie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s us joy and peace unend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Hallelujah! Let Praises 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allelujah! Let praises r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o the Holy Ghost we 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our regener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ng faith in us He wrou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us unto the Bridegroom bro'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us His chosen n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y! Glory! Joy eterna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iss supernal; There is man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n endless, glad hosann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Hallelujah! Let Praises R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allelujah! Let praises r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o our Triune God we s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ess be His name foreve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ngel hosts let us ad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ing His praises more and m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all His grace and favo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ing, ringing: Holy,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is holy;-- Spread the 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our God the Lord of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35:51Z</dcterms:modified>
  <cp:revision>9</cp:revision>
  <dc:subject/>
  <dc:title>Slide 1</dc:title>
</cp:coreProperties>
</file>