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Thy Temple I Re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GOTT SEI D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ames Montgomery, 1771-18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Geist-reiches Gesang-Buch, 17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 - To Thy Temple I Repai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To Thy temple I repai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d, I love to worship t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within the veil I me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 before the mercy sea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 - To Thy Temple I Repai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I through Him am reconcil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through Him become Thy chi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ba, Father, give me g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y courts to seek Thy f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 - To Thy Temple I Repai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While Thy glorious praise is su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uch my lips, unloose my tongu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my joyful soul may bl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 the Lord, my Righteousn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 - To Thy Temple I Repai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While the prayers of saints asce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Love, to mine atte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r me, for Thy Spirit plead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r, for Jesus interced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 - To Thy Temple I Repai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While I hearken to Thy la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ll my soul with humble aw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ll Thy Gospel brings to 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 and immortal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 - To Thy Temple I Repai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While Thy ministers procla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ace and pardon in Thy na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ough their voice, by faith, may 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r Thee speaking from the sk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 - To Thy Temple I Repai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7] From Thy house when I retur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my heart within me bur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at evening let me s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I have walked with God today.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2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14:37Z</dcterms:modified>
  <cp:revision>9</cp:revision>
  <dc:subject/>
  <dc:title>Slide 1</dc:title>
</cp:coreProperties>
</file>