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The Lutheran Hymnal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Day at Thy Creating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WINCHESTER 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William W. How, 1823-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Musicalisch Hand-Buch der Geistl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lodien, Hamburg, 1690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2 - This Day at Thy Creating Wor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This day at Thy creating w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o'er the earth the light was poured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Lord, this day upon us sh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fill our souls with light divin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2 - This Day at Thy Creating Wor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This day the Lord for sinners sla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might victorious rose agai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Jesus, may we raised b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death of sin to life in The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2 - This Day at Thy Creating Wor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This day the Holy Spirit c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fiery tongues of cloven flam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Spirit, fill our hearts this d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grace to hear and grace to pra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2 - This Day at Thy Creating Wor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O day of light and life and gra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earthly toil sweet resting-pla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y hallowed hours, blest gift of lov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ive we again to God abov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2 - This Day at Thy Creating Wor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All praise to God the Father b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praise, eternal Son, to The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m, with the Spirit, we ado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ever and foreverm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8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Vossler</cp:lastModifiedBy>
  <dcterms:modified xsi:type="dcterms:W3CDTF">2009-02-19T02:24:44Z</dcterms:modified>
  <cp:revision>9</cp:revision>
  <dc:subject/>
  <dc:title>Slide 1</dc:title>
</cp:coreProperties>
</file>