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All that Dwell below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ASST UNS ERFRE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Isaac Watts, 1674-17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istliche Kirchengesänge, Köln, 1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From All that Dwell below the Ski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From all that dwell below the sk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Creator's praise ar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Redeemer's name be su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' ev'ry land, by ev'ry tong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5 - From All that Dwell below the Ski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ternal are Thy mercies L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ernal truth attends Thy Wor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praise shall sound from shore to sh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suns shall rise and set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7:45Z</dcterms:modified>
  <cp:revision>9</cp:revision>
  <dc:subject/>
  <dc:title>Slide 1</dc:title>
</cp:coreProperties>
</file>